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9947-7ABB-4387-93AD-5421BA953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731-08C1-408E-A292-63B3D5B9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CC5-7D74-4D0F-AFA2-1A5FCAF9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390D-D039-4375-8181-1FB43073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FE33-CA38-40B4-BD39-A2171487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B937-F2F4-4ACE-8A19-CBBC1EC7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F52C-B216-40F0-B7F8-9A797E42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E8CC-C378-4552-BF4B-2912C01E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FFAA-3B79-4D02-976D-1A59DB01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A4B8-49BD-4640-A9EA-0EDBEE7D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62E1-6D2C-4CB8-B33D-AF663711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2C00-894D-4DF6-9DB8-84E0D0CB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A3D2-3157-42CB-A05E-E1A47B99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5EFC-29AB-483B-A3CB-4CEF8C0A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1449-08F1-492D-844B-D01ED0E1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2606-7EB4-443C-B784-36AFA345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EDB6-4CDF-46E1-B4F3-512D2841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8623-995E-4C82-A62F-7AE605D1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11E-08D2-44C5-B98A-A4B82B7C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708B-0F94-4128-BA01-12192EB5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29A-A00D-4BEB-8FA6-16543620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2C9-4D4F-47A8-8D59-8E6CAE2B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59DB-C942-4C50-BE75-CAEBA224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B62-C235-48C3-B8C4-F5A86B6B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1D46-EBB2-41BF-AE63-E109ECAA2A40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ED8E-0477-4CE8-BC20-5CE154E35DC7}" type="slidenum">
              <a:rPr b="0" lang="ar-SA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29628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rot="16200000">
            <a:off x="4038480" y="-4038480"/>
            <a:ext cx="1219320" cy="92962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LB" sz="2800" spc="-1" strike="noStrike">
                <a:solidFill>
                  <a:srgbClr val="ffffff"/>
                </a:solidFill>
                <a:latin typeface="Arial"/>
                <a:cs typeface="Arial"/>
              </a:rPr>
              <a:t>باب الصب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  <a:cs typeface="Arial"/>
              </a:rPr>
              <a:t>وَالَّذِينَ صَبَرُوا ابْتِغَاءَ وَجْهِ رَبِّهِم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60958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إضغط الماوس لبدء العرض</a:t>
            </a:r>
            <a:r>
              <a:rPr b="1" lang="ar-L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4450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لظهور الاحتمالات إضغط الماوس بعد إنتهاء الآية             و لمعرفة الاحتمال الصحيح إضغط الماوس مرة ثا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621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َنَسِمُه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خُرْطُو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3276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َنَسِمُ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49320" y="3276720"/>
            <a:ext cx="164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علِّم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276720"/>
            <a:ext cx="1474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ضرب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65600" y="3276720"/>
            <a:ext cx="170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نشدّه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05720" y="4267080"/>
            <a:ext cx="1531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خُرْطُو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4267080"/>
            <a:ext cx="1596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ذراع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4267080"/>
            <a:ext cx="1663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جبي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4267080"/>
            <a:ext cx="1590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أن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219320" y="5029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سنضع له علامة على أنفه يراد بها زيادة في إذلاله وإهانته بذلَّة ظاهرة يعرفه بها كل من رآه ونظر إلي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8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8" dur="4022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80"/>
                            </p:stCondLst>
                            <p:childTnLst>
                              <p:par>
                                <p:cTn id="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80"/>
                            </p:stCondLst>
                            <p:childTnLst>
                              <p:par>
                                <p:cTn id="6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28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780"/>
                            </p:stCondLst>
                            <p:childTnLst>
                              <p:par>
                                <p:cTn id="6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62120" y="16765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ا بَلَوْنَاهُمْ كَمَا بَلَوْنَا أَصْحَابَ الْجَنَّةِ إِذْ أَقْسَمُو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يَصْرِمُنَّ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ُصْبِح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60000" y="3510000"/>
            <a:ext cx="166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يَصْرِمُنَّ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3510000"/>
            <a:ext cx="148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قطعنَّ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3505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بعدنَّه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76120" y="3505320"/>
            <a:ext cx="149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ليخربنَّ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54160" y="464832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صرم : المراد به قطف الثمار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14942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500"/>
                            </p:stCondLst>
                            <p:childTnLst>
                              <p:par>
                                <p:cTn id="6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38080" y="15238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طَافَ عَلَيْ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ائِف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ْ رَبِّكَ وَهُمْ نَائِم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                 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( القلم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3505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طَائِف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3510000"/>
            <a:ext cx="1535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ل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055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يضان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3505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زائ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65760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6" dur="10554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094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أَصْبَحَتْ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كَالصَّرِي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629400" y="304812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صَّرِيم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4800600"/>
            <a:ext cx="419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شجر المقطوع ثم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3886200"/>
            <a:ext cx="4189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صحر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3048120"/>
            <a:ext cx="4162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أرض المحصود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191120" y="2286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7" dur="350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3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غَدَوْا عَ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َرْد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َادِر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86600" y="35812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َرْد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3581280"/>
            <a:ext cx="1557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ه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6360" y="3581280"/>
            <a:ext cx="1571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0960" y="4724280"/>
            <a:ext cx="84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معنى الحرد أنهم صمموا في أنفسهم الإمتناع عن العطاء للمساك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3" dur="512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000"/>
                            </p:stCondLst>
                            <p:childTnLst>
                              <p:par>
                                <p:cTn id="8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2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6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371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صْبِرْ لِحُكْمِ رَبِّكَ وَلا تَكُنْ كَصَاحِبِ الْحُوتِ إِذْ نَادَى وَهُو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كْظُو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81680" y="3586320"/>
            <a:ext cx="144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مَكْظُوم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14560" y="3554280"/>
            <a:ext cx="198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جرع غيظ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55428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همو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62120" y="3554280"/>
            <a:ext cx="1898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ائ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85520" y="484020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مكظوم أي مختنق بالغم حيث لا يجد لغيظه شفاء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7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9" dur="11390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500"/>
                            </p:stCondLst>
                            <p:childTnLst>
                              <p:par>
                                <p:cTn id="87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8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87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9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3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4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3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4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40"/>
                            </p:stCondLst>
                            <p:childTnLst>
                              <p:par>
                                <p:cTn id="9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62120" y="16765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نْ يَكَادُ الَّذِينَ كَفَرُوا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لَيُزْلِقُونَك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أَبْصَارِهِمْ لَمَّا سَمِعُوا الذِّكْرَ وَيَقُولُونَ إِنَّهُ لَمَجْنُون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8168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الزلق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055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زل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3662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غ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657600"/>
            <a:ext cx="1576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دا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461160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:أي كادوا أن يصرعوك ويهلكوك بأبصاره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0" dur="1771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500"/>
                            </p:stCondLst>
                            <p:childTnLst>
                              <p:par>
                                <p:cTn id="9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49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59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0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8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320"/>
                            </p:stCondLst>
                            <p:childTnLst>
                              <p:par>
                                <p:cTn id="9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8580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حَاقَّة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34320" y="3505320"/>
            <a:ext cx="1339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حَاقَّة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46400" y="3505320"/>
            <a:ext cx="1654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ثابت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4360" y="3505320"/>
            <a:ext cx="1611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ص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79360" y="3505320"/>
            <a:ext cx="1716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زلز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48006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اقة : سميت القيامة كذلك لثبوتها ثبوتاً لا مرد له ولا ريب فيه من حق الشيء بمعنى ثبت وتقرر تقرراً واقعياً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426708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7" dur="4494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9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0" dur="8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003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4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5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320"/>
                            </p:stCondLst>
                            <p:childTnLst>
                              <p:par>
                                <p:cTn id="10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04920" y="1752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ذَّبَتْ ثَمُودُ وَعَادٌ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ِالْقَارِعَة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3276720"/>
            <a:ext cx="1218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القرع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029200" y="32608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د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90960" y="327672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95280" y="3260880"/>
            <a:ext cx="1508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خو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41148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سميت بالقارعة لأنها تقرع وتدك السماوات والأرض بتبديلها والجبا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بتسييرها والشمس بتكويرها والقمر بخسفها والكواكب بنثره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والأشياء كلها بقهر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9" dur="5904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09480" y="16765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سَخَّرَهَا عَلَيْهِمْ سَبْعَ لَيَالٍ وَثَمَانِيَةَ أَيَّام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سُوم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تَرَى الْقَوْمَ فِيهَا صَرْعَى كَأَنَّهُ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عْجَاز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نَخْلٍ خَاوِيَة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سُوم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44956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عَجزُ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24280" y="35812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تا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43200" y="35812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قط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3581280"/>
            <a:ext cx="1746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خرّ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43200" y="4495680"/>
            <a:ext cx="1817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آخر الشي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24280" y="44956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38080" y="4495680"/>
            <a:ext cx="1773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ص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838080" y="51814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انه شبَّه أجسادهم بجذوع النخل المقلوعة من أساسها والفارغة من قلبها الملقاة على الأرض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8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0" dur="20637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أُلْقُوا فِيهَا سَمِعُوا لَ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هِيق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ه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فُو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2824200"/>
            <a:ext cx="1219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هِي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47242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فُو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06760" y="2824200"/>
            <a:ext cx="1965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 الح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37240" y="2824200"/>
            <a:ext cx="21207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 أخذ النف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824200"/>
            <a:ext cx="1719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وتاً عال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47242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غ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4724280"/>
            <a:ext cx="2057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قذ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72428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قلَّ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73392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تجذبهم إلى داخلها كما يُجذَب الهواء بالشهيق إلى داخل الصد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71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8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838080" y="19810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عَصَوْا رَسُولَ رَبِّهِمْ فَأَخَذَهُمْ أَخْذَة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بِيَة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بِيَة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3581280"/>
            <a:ext cx="1433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581280"/>
            <a:ext cx="148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رتف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3581280"/>
            <a:ext cx="1438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ي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46560" y="4800600"/>
            <a:ext cx="516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أخذة رابية  والمراد بها العقوبة الشديد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0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8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8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9" dur="8098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4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990720" y="18288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نْشَقَّتِ السَّمَاءُ فَهِيَ يَوْمَئِذ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هِي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29400" y="3733920"/>
            <a:ext cx="1379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هِي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73392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ي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3733920"/>
            <a:ext cx="1616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اق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66680" y="3738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خفيف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61320" y="515628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تعبير عن تلاشي النظام السماوي وفقدان تماسك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0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5" dur="8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6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8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2" dur="9196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219320" y="1828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أَمَّا مَنْ أُوتِيَ كِتَابَهُ بِيَمِينِهِ فَيَقُو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اؤُم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قْرَأوا كِتَابِيَه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364644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اؤُم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257800" y="36306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ك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17840" y="3630600"/>
            <a:ext cx="1459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تعالوا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3630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ت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3920" y="4648320"/>
            <a:ext cx="80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اؤم : بمعنى هاكم وهي أمر للجماعة بلغة أهل الحجا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0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2" dur="13532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0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9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53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4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5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280"/>
                            </p:stCondLst>
                            <p:childTnLst>
                              <p:par>
                                <p:cTn id="1258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59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0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1" dur="8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520"/>
                            </p:stCondLst>
                            <p:childTnLst>
                              <p:par>
                                <p:cTn id="1264" nodeType="after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265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6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7" dur="8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600"/>
                            </p:stCondLst>
                            <p:childTnLst>
                              <p:par>
                                <p:cTn id="1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53352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طَعَامٌ إِلَّا مِ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ِسْل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84720" y="3505320"/>
            <a:ext cx="1375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ِسْل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0160" y="3510000"/>
            <a:ext cx="222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سالة الجس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350532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م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81480" y="3505320"/>
            <a:ext cx="1492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400" y="4800600"/>
            <a:ext cx="88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غسلين : المراد به ما يسيل من أبدان أهل النار من قيح  وصديد وغير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0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8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8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6" dur="5225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500"/>
                            </p:stCondLst>
                            <p:childTnLst>
                              <p:par>
                                <p:cTn id="129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15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6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7" dur="8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20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1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2" dur="8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200"/>
                            </p:stCondLst>
                            <p:childTnLst>
                              <p:par>
                                <p:cTn id="1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8580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ُمَّ لَقَطَعْنَا مِنْهُ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الْوَت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حاق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0" y="35053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وَتِي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695320" y="3510000"/>
            <a:ext cx="228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رايين الجس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350532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بل الص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90720" y="3505320"/>
            <a:ext cx="1654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رق القل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fill="hold">
                      <p:stCondLst>
                        <p:cond delay="0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4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6" dur="5225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8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8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5335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تَكُونُ الْجِبَا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عِهْن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78168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عِهْن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36576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صو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52880" y="3662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ط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حر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7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9" dur="4494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02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3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4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07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8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9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45720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زَّاعَة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لشَّو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057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لشَّوَى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8006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لأطر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3489480"/>
            <a:ext cx="1496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للجلد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95280" y="3489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لعي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97960" y="4800600"/>
            <a:ext cx="825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للشوى : أي صفتها إحراق الأطراف من  الأيدي والأرجل واقتلاع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1911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0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9" dur="3762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500"/>
                            </p:stCondLst>
                            <p:childTnLst>
                              <p:par>
                                <p:cTn id="14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9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7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9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2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7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914400" y="17524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جَمَع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أَوْع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8168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أَوْعَى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10880" y="3586320"/>
            <a:ext cx="1747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عله بوع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876920" y="3581280"/>
            <a:ext cx="1608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أسر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971800" y="3581280"/>
            <a:ext cx="154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تصد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5105520"/>
            <a:ext cx="74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راد أي الذي جمع المال وأمسكه في وعائه ولم ينفق منه للسائل والمحرو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37339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0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7" dur="2822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500"/>
                            </p:stCondLst>
                            <p:childTnLst>
                              <p:par>
                                <p:cTn id="14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04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5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6" dur="8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09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0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1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240"/>
                            </p:stCondLst>
                            <p:childTnLst>
                              <p:par>
                                <p:cTn id="1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ذَا مَسَّهُ الشَّرّ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زُوع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10640" y="3505320"/>
            <a:ext cx="132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زُوع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819520" y="350532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صب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29200" y="3505320"/>
            <a:ext cx="183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حري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120" y="3505320"/>
            <a:ext cx="1790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 خائ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fill="hold">
                      <p:stCondLst>
                        <p:cond delay="0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5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7" dur="4650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1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5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59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0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1" dur="8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4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5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6" dur="8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69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0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1" dur="8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574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5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6" dur="8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533520" y="1981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عَنِ الْيَمِينِ وَعَنِ الشِّمَال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ِزِي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934320" y="36576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ِزِي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85280" y="3657600"/>
            <a:ext cx="25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عات متفرق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00600" y="3657600"/>
            <a:ext cx="1981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الس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819520" y="3657600"/>
            <a:ext cx="190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تحلق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0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4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6" dur="5382" fill="hold"/>
                                        <p:tgtEl>
                                          <p:spTgt spid="3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500"/>
                            </p:stCondLst>
                            <p:childTnLst>
                              <p:par>
                                <p:cTn id="15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9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1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3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6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2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14479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كَاد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مَيَّز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مِنَ الْغَيْظِ كُلَّمَا أُلْقِيَ فِيهَا فَوْجٌ سَأَلَهُمْ خَزَنَتُهَا أَلَمْ يَأْتِكُمْ نَذِي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733920"/>
            <a:ext cx="1334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مَيَّز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733920"/>
            <a:ext cx="1666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لاش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37339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صر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733920"/>
            <a:ext cx="155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شتع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708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62120" y="14479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وْمَ يَخْرُجُونَ مِن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أَجْدَاث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سِرَاعاً كَأَنَّهُمْ إِ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ُصُب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وفِض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عارج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971800"/>
            <a:ext cx="1371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أَجْدَاث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30280" y="4572000"/>
            <a:ext cx="1581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وفِضُو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4300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ب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0552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اكف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24080" y="2971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ترا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29200" y="45720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رع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4572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ذهبون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457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رسل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38098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ُصُب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05520" y="380988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لا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124080" y="38098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ماثيل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43000" y="380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اب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400" y="5410080"/>
            <a:ext cx="89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نصب : وهي ما ينصب علامة في الطريق يقصده السائرون للإهتداء ب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3" dur="indefinite" restart="never" nodeType="tmRoot">
          <p:childTnLst>
            <p:seq>
              <p:cTn id="1624" dur="indefinite" nodeType="mainSeq">
                <p:childTnLst>
                  <p:par>
                    <p:cTn id="1625" fill="hold">
                      <p:stCondLst>
                        <p:cond delay="0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1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3" dur="12644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1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60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1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2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665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6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7" dur="8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320"/>
                            </p:stCondLst>
                            <p:childTnLst>
                              <p:par>
                                <p:cTn id="16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4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320"/>
                            </p:stCondLst>
                            <p:childTnLst>
                              <p:par>
                                <p:cTn id="1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1820"/>
                            </p:stCondLst>
                            <p:childTnLst>
                              <p:par>
                                <p:cTn id="16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2820"/>
                            </p:stCondLst>
                            <p:childTnLst>
                              <p:par>
                                <p:cTn id="16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3320"/>
                            </p:stCondLst>
                            <p:childTnLst>
                              <p:par>
                                <p:cTn id="16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6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1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3" dur="1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6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0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1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9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1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4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10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46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4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762120" y="17524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نِّي كُلَّمَا دَعَوْتُهُمْ لِتَغْفِرَ لَهُمْ جَعَلُوا أَصَابِعَهُمْ فِي آذَانِهِ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سْتَغْشَوْ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ثِيَابَهُمْ وَأَصَرُّوا وَاسْتَكْبَرُوا اسْتِكْبَا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نوح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71160" y="3657600"/>
            <a:ext cx="182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سْتَغْشَوْ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3657600"/>
            <a:ext cx="1540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غط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017880" y="365760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ير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3657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دل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21240" y="4800600"/>
            <a:ext cx="883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ستغشوا أي غطوا رؤوسهم ووجوههم بثيابهم لئلا يروا أو يسمعوا وه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كناية عن التنفر وعدم الإستماع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5" dur="indefinite" restart="never" nodeType="tmRoot">
          <p:childTnLst>
            <p:seq>
              <p:cTn id="1756" dur="indefinite" nodeType="mainSeq">
                <p:childTnLst>
                  <p:par>
                    <p:cTn id="1757" fill="hold">
                      <p:stCondLst>
                        <p:cond delay="0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4" dur="29414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83" nodeType="after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6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00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1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2" dur="8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05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6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7" dur="8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10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1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2" dur="8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240"/>
                            </p:stCondLst>
                            <p:childTnLst>
                              <p:par>
                                <p:cTn id="18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85800" y="160020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 اغْفِرْ لِي وَلِوَالِدَيَّ وَلِمَنْ دَخَلَ بَيْتِيَ مُؤْمِناً وَلِلْمُؤْمِنِينَ وَالْمُؤْمِنَاتِ وَلا تَزِدِ الظَّالِمِينَ إِل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بَا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نوح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بَا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35812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هلاك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358128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ا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219320" y="3586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ل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8" dur="indefinite" restart="never" nodeType="tmRoot">
          <p:childTnLst>
            <p:seq>
              <p:cTn id="1819" dur="indefinite" nodeType="mainSeq">
                <p:childTnLst>
                  <p:par>
                    <p:cTn id="1820" fill="hold">
                      <p:stCondLst>
                        <p:cond delay="0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6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8" dur="21630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4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63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4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5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68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9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0" dur="8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87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4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5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85800" y="16765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تَعَال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دّ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بِّنَا مَا اتَّخَذَ صَاحِبَةً وَلا وَل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010280" y="352116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جَدُّ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3505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05320" y="3505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3505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ع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7" dur="indefinite" restart="never" nodeType="tmRoot">
          <p:childTnLst>
            <p:seq>
              <p:cTn id="1878" dur="indefinite" nodeType="mainSeq">
                <p:childTnLst>
                  <p:par>
                    <p:cTn id="1879" fill="hold">
                      <p:stCondLst>
                        <p:cond delay="0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3" dur="8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4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8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0" dur="10188" fill="hold"/>
                                        <p:tgtEl>
                                          <p:spTgt spid="4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500"/>
                            </p:stCondLst>
                            <p:childTnLst>
                              <p:par>
                                <p:cTn id="18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1066680" y="15238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كَانَ رِجَالٌ مِنَ الْأِنْسِ يَعُوذُونَ بِرِجَالٍ مِنَ الْجِنِّ فَزَادُوهُمْ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رَهَ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هَ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828800" y="35812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ث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05320" y="3581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ق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8148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اب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5" dur="indefinite" restart="never" nodeType="tmRoot">
          <p:childTnLst>
            <p:seq>
              <p:cTn id="1916" dur="indefinite" nodeType="mainSeq">
                <p:childTnLst>
                  <p:par>
                    <p:cTn id="1917" fill="hold">
                      <p:stCondLst>
                        <p:cond delay="0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7" dur="14734" fill="hold"/>
                                        <p:tgtEl>
                                          <p:spTgt spid="4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500"/>
                            </p:stCondLst>
                            <p:childTnLst>
                              <p:par>
                                <p:cTn id="19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2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4" dur="8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5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8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1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6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60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1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2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65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6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7" dur="8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970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1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2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143000" y="13716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ا مِنَّا الصَّالِحُونَ وَمِنَّا دُونَ ذَلِكَ كُن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رَائِقَ قِد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781680" y="30481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َرَائِقَ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781680" y="41148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د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41148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ط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819520" y="304812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76920" y="304812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38080" y="30481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ائ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411480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يد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4114800"/>
            <a:ext cx="1665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عب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066680" y="4876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عنى : وصفت الطرائق بالقدد لأن كل واحدة منها مقطوعة عن غيرها تنتهي بسالكها إلى غاية غير ما ينتهي به غيرها ، والمراد تشبيهها بالمذاهب المتفرقة المشتت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4" dur="indefinite" restart="never" nodeType="tmRoot">
          <p:childTnLst>
            <p:seq>
              <p:cTn id="1975" dur="indefinite" nodeType="mainSeq">
                <p:childTnLst>
                  <p:par>
                    <p:cTn id="1976" fill="hold">
                      <p:stCondLst>
                        <p:cond delay="0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6" dur="14368" fill="hold"/>
                                        <p:tgtEl>
                                          <p:spTgt spid="4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9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0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2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500"/>
                            </p:stCondLst>
                            <p:childTnLst>
                              <p:par>
                                <p:cTn id="203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56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7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8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061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2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3" dur="8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280"/>
                            </p:stCondLst>
                            <p:childTnLst>
                              <p:par>
                                <p:cTn id="2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219320" y="12193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ا مِنَّا الْمُسْلِمُونَ وَمِنّ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قَاسِطُون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مَنْ أَسْلَمَ فَأُولَئِ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حَرَّوْ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رَش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51102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تَحَرَّوْ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5110200"/>
            <a:ext cx="1214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صد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57600" y="5110200"/>
            <a:ext cx="1173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حثو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0" y="510552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و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781680" y="2747880"/>
            <a:ext cx="14479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قَاسِطُون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0" y="3505320"/>
            <a:ext cx="396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عادلون عن الح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0" y="274320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بعيدو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0" y="4267080"/>
            <a:ext cx="396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شككون بالح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fill="hold">
                      <p:stCondLst>
                        <p:cond delay="0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9" dur="1541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fill="hold">
                            <p:stCondLst>
                              <p:cond delay="500"/>
                            </p:stCondLst>
                            <p:childTnLst>
                              <p:par>
                                <p:cTn id="20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04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5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6" dur="80"/>
                                        <p:tgtEl>
                                          <p:spTgt spid="4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09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0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1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fill="hold">
                            <p:stCondLst>
                              <p:cond delay="560"/>
                            </p:stCondLst>
                            <p:childTnLst>
                              <p:par>
                                <p:cTn id="211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1" fill="hold">
                            <p:stCondLst>
                              <p:cond delay="1060"/>
                            </p:stCondLst>
                            <p:childTnLst>
                              <p:par>
                                <p:cTn id="2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560"/>
                            </p:stCondLst>
                            <p:childTnLst>
                              <p:par>
                                <p:cTn id="212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0" fill="hold">
                            <p:stCondLst>
                              <p:cond delay="2060"/>
                            </p:stCondLst>
                            <p:childTnLst>
                              <p:par>
                                <p:cTn id="2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7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8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9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42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3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4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َّوِ اسْتَقَامُوا عَلَى الطَّرِيقَةِ لَأَسْقَيْنَاهُمْ مَاء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َدَ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934320" y="35812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غَدَق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3554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ث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3554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دي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55428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6" dur="indefinite" restart="never" nodeType="tmRoot">
          <p:childTnLst>
            <p:seq>
              <p:cTn id="2147" dur="indefinite" nodeType="mainSeq">
                <p:childTnLst>
                  <p:par>
                    <p:cTn id="2148" fill="hold">
                      <p:stCondLst>
                        <p:cond delay="0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54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6" dur="11181" fill="hold"/>
                                        <p:tgtEl>
                                          <p:spTgt spid="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1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3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4" fill="hold">
                      <p:stCondLst>
                        <p:cond delay="indefinite"/>
                      </p:stCondLst>
                      <p:childTnLst>
                        <p:par>
                          <p:cTn id="2185" fill="hold">
                            <p:stCondLst>
                              <p:cond delay="0"/>
                            </p:stCondLst>
                            <p:childTnLst>
                              <p:par>
                                <p:cTn id="2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066680" y="137160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ِنَفْتِنَهُمْ فِيهِ وَمَنْ يُعْرِضْ عَنْ ذِكْرِ رَبِّهِ يَسْلُكْهُ عَذَابا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َع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52760" y="3417840"/>
            <a:ext cx="117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َع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34020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ق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340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وي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371600" y="3402000"/>
            <a:ext cx="1461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ائ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383000"/>
            <a:ext cx="66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عذاباً صعدأ : هو العذاب الذي يصعد على المعذب ويغلبه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94" dur="indefinite" restart="never" nodeType="tmRoot">
          <p:childTnLst>
            <p:seq>
              <p:cTn id="2195" dur="indefinite" nodeType="mainSeq">
                <p:childTnLst>
                  <p:par>
                    <p:cTn id="2196" fill="hold">
                      <p:stCondLst>
                        <p:cond delay="0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0" dur="8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1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8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7" dur="13271" fill="hold"/>
                                        <p:tgtEl>
                                          <p:spTgt spid="4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36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57200" y="17524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نَّهُ لَمَّا قَامَ عَبْدُ اللَّهِ يَدْعُوهُ كَادُوا يَكُونُونَ عَلَيْهِ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لِبَد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86600" y="3570120"/>
            <a:ext cx="10666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ب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3554280"/>
            <a:ext cx="153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105520" y="3554280"/>
            <a:ext cx="1481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خ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48120" y="3554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هري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72560" y="4648320"/>
            <a:ext cx="56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ي عندما قام للصلاة ازدحموا عليه متعجب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9" dur="indefinite" restart="never" nodeType="tmRoot">
          <p:childTnLst>
            <p:seq>
              <p:cTn id="2250" dur="indefinite" nodeType="mainSeq">
                <p:childTnLst>
                  <p:par>
                    <p:cTn id="2251" fill="hold">
                      <p:stCondLst>
                        <p:cond delay="0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57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9" dur="13009" fill="hold"/>
                                        <p:tgtEl>
                                          <p:spTgt spid="5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9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1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15238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هُوَ الَّذِي جَعَلَ لَكُمُ الْأَرْضَ ذَلُولاً فَامْشُوا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نَاكِبِ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كُلُوا مِنْ رِزْقِهِ وَإِلَيْهِ النُّشُو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3581280"/>
            <a:ext cx="1527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نَاكِبِ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581280"/>
            <a:ext cx="159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ظلال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3581280"/>
            <a:ext cx="163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زرع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160" y="3581280"/>
            <a:ext cx="1684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طح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489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قُلْ إِنِّي لَنْ يُجِيرَنِي مِنَ اللَّهِ أَحَدٌ وَلَنْ أَجِدَ مِنْ دُون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لْتَحَداً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جـ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لْتَحَد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295280" y="35863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لتجأ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3581280"/>
            <a:ext cx="1405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ازق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4812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اس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1" dur="indefinite" restart="never" nodeType="tmRoot">
          <p:childTnLst>
            <p:seq>
              <p:cTn id="2302" dur="indefinite" nodeType="mainSeq">
                <p:childTnLst>
                  <p:par>
                    <p:cTn id="2303" fill="hold">
                      <p:stCondLst>
                        <p:cond delay="0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3" dur="11547" fill="hold"/>
                                        <p:tgtEl>
                                          <p:spTgt spid="5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0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ا أَيّ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زَّمِّل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947280" y="3505320"/>
            <a:ext cx="144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زَّمِّل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35053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واض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7520" y="3505320"/>
            <a:ext cx="222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لتف بالثو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062680" y="3510000"/>
            <a:ext cx="1795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ضع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0" dur="indefinite" restart="never" nodeType="tmRoot">
          <p:childTnLst>
            <p:seq>
              <p:cTn id="2341" dur="indefinite" nodeType="mainSeq">
                <p:childTnLst>
                  <p:par>
                    <p:cTn id="2342" fill="hold">
                      <p:stCondLst>
                        <p:cond delay="0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8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0" dur="5695" fill="hold"/>
                                        <p:tgtEl>
                                          <p:spTgt spid="5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500"/>
                            </p:stCondLst>
                            <p:childTnLst>
                              <p:par>
                                <p:cTn id="23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fill="hold">
                      <p:stCondLst>
                        <p:cond delay="indefinite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1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1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86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88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1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1371600" y="160020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شِئَةَ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اللَّيْلِ هِيَ أَشَدّ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طْئ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أَقْوَم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86600" y="3124080"/>
            <a:ext cx="1143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شِئَة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1480" y="31240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دث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3124080"/>
            <a:ext cx="1643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فو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95280" y="31240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ف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10280" y="472932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طْئ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295280" y="47293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ثبات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541008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ِيل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54100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و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81480" y="4724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472932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و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4100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ع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295280" y="54100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صحوة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618840" y="3733920"/>
            <a:ext cx="796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مراد بحادثة ما يحدث وينشأ ، والمقصود بها الصلاة والطاع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في اللي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5181480" y="243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5" dur="indefinite" restart="never" nodeType="tmRoot">
          <p:childTnLst>
            <p:seq>
              <p:cTn id="2396" dur="indefinite" nodeType="mainSeq">
                <p:childTnLst>
                  <p:par>
                    <p:cTn id="2397" fill="hold">
                      <p:stCondLst>
                        <p:cond delay="0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1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3" dur="909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9" fill="hold">
                            <p:stCondLst>
                              <p:cond delay="500"/>
                            </p:stCondLst>
                            <p:childTnLst>
                              <p:par>
                                <p:cTn id="24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9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1" dur="8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2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8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30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1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2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35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6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7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9" fill="hold">
                            <p:stCondLst>
                              <p:cond delay="200"/>
                            </p:stCondLst>
                            <p:childTnLst>
                              <p:par>
                                <p:cTn id="2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4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64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5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6" dur="8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69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0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1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240"/>
                            </p:stCondLst>
                            <p:childTnLst>
                              <p:par>
                                <p:cTn id="247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0" fill="hold">
                            <p:stCondLst>
                              <p:cond delay="1240"/>
                            </p:stCondLst>
                            <p:childTnLst>
                              <p:par>
                                <p:cTn id="24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5" fill="hold">
                            <p:stCondLst>
                              <p:cond delay="1740"/>
                            </p:stCondLst>
                            <p:childTnLst>
                              <p:par>
                                <p:cTn id="24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2" fill="hold">
                            <p:stCondLst>
                              <p:cond delay="2240"/>
                            </p:stCondLst>
                            <p:childTnLst>
                              <p:par>
                                <p:cTn id="24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9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914400" y="16002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يَوْمَ تَرْجُفُ الْأَرْضُ وَالْجِبَالُ وَكَانَتِ الْجِبَا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ثِيباً مَه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زمل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62920" y="44197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ل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952880" y="4419720"/>
            <a:ext cx="2133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نحدَراً من أعل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666880" y="4419720"/>
            <a:ext cx="216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رياً ناع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441972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اً ثابت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162920" y="32767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ثِيب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952880" y="3276720"/>
            <a:ext cx="2133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ارةً صغ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666880" y="3281400"/>
            <a:ext cx="2133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يناً جاف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3276720"/>
            <a:ext cx="190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ملاً مجتم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59640" y="5334120"/>
            <a:ext cx="87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هيل هو إذا حرك الرمل المجتمع من أسفله سال من أعلاه منحدرا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3"/>
          <a:stretch/>
        </p:blipFill>
        <p:spPr>
          <a:xfrm>
            <a:off x="3429000" y="2514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2" dur="indefinite" restart="never" nodeType="tmRoot">
          <p:childTnLst>
            <p:seq>
              <p:cTn id="2503" dur="indefinite" nodeType="mainSeq">
                <p:childTnLst>
                  <p:par>
                    <p:cTn id="2504" fill="hold">
                      <p:stCondLst>
                        <p:cond delay="0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0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2" dur="9614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8" fill="hold">
                            <p:stCondLst>
                              <p:cond delay="500"/>
                            </p:stCondLst>
                            <p:childTnLst>
                              <p:par>
                                <p:cTn id="25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fill="hold">
                      <p:stCondLst>
                        <p:cond delay="indefinite"/>
                      </p:stCondLst>
                      <p:childTnLst>
                        <p:par>
                          <p:cTn id="2532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34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5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6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539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0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1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3" fill="hold">
                            <p:stCondLst>
                              <p:cond delay="480"/>
                            </p:stCondLst>
                            <p:childTnLst>
                              <p:par>
                                <p:cTn id="25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fill="hold">
                            <p:stCondLst>
                              <p:cond delay="980"/>
                            </p:stCondLst>
                            <p:childTnLst>
                              <p:par>
                                <p:cTn id="25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3" fill="hold">
                            <p:stCondLst>
                              <p:cond delay="1480"/>
                            </p:stCondLst>
                            <p:childTnLst>
                              <p:par>
                                <p:cTn id="25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58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9" fill="hold">
                            <p:stCondLst>
                              <p:cond delay="2480"/>
                            </p:stCondLst>
                            <p:childTnLst>
                              <p:par>
                                <p:cTn id="25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60948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يَا أَيّ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دَّثِّ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0" y="3292560"/>
            <a:ext cx="12193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ُدَّثِّ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66680" y="3276720"/>
            <a:ext cx="1263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ختب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819520" y="3276720"/>
            <a:ext cx="1447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غط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800600" y="3276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تدف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44197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3" dur="indefinite" restart="never" nodeType="tmRoot">
          <p:childTnLst>
            <p:seq>
              <p:cTn id="2574" dur="indefinite" nodeType="mainSeq">
                <p:childTnLst>
                  <p:par>
                    <p:cTn id="2575" fill="hold">
                      <p:stCondLst>
                        <p:cond delay="0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1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3" dur="5382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0" fill="hold">
                            <p:stCondLst>
                              <p:cond delay="500"/>
                            </p:stCondLst>
                            <p:childTnLst>
                              <p:par>
                                <p:cTn id="25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رُّجْزَ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هْجُر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930720" y="3505320"/>
            <a:ext cx="137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رُّجْز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994120" y="3510000"/>
            <a:ext cx="1577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إث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95288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شهو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77840" y="350532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جهو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2" dur="indefinite" restart="never" nodeType="tmRoot">
          <p:childTnLst>
            <p:seq>
              <p:cTn id="2613" dur="indefinite" nodeType="mainSeq">
                <p:childTnLst>
                  <p:par>
                    <p:cTn id="2614" fill="hold">
                      <p:stCondLst>
                        <p:cond delay="0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20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2" dur="2822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fill="hold">
                            <p:stCondLst>
                              <p:cond delay="500"/>
                            </p:stCondLst>
                            <p:childTnLst>
                              <p:par>
                                <p:cTn id="26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7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1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2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3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نُقِرَ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نَّاقُور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553080" y="3052800"/>
            <a:ext cx="1432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نَّاقُور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438280" y="3048120"/>
            <a:ext cx="327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نقر فيه للتصوي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38280" y="3809880"/>
            <a:ext cx="3276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كتب في اللو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438280" y="4572000"/>
            <a:ext cx="3279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زم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2139840" y="5257800"/>
            <a:ext cx="52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نقر معناه القرع  أي الدق على الشيء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0" dur="indefinite" restart="never" nodeType="tmRoot">
          <p:childTnLst>
            <p:seq>
              <p:cTn id="2651" dur="indefinite" nodeType="mainSeq">
                <p:childTnLst>
                  <p:par>
                    <p:cTn id="2652" fill="hold">
                      <p:stCondLst>
                        <p:cond delay="0"/>
                      </p:stCondLst>
                      <p:childTnLst>
                        <p:par>
                          <p:cTn id="2653" fill="hold">
                            <p:stCondLst>
                              <p:cond delay="0"/>
                            </p:stCondLst>
                            <p:childTnLst>
                              <p:par>
                                <p:cTn id="26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8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0" dur="4441" fill="hold"/>
                                        <p:tgtEl>
                                          <p:spTgt spid="5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4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88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9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1" fill="hold">
                            <p:stCondLst>
                              <p:cond delay="500"/>
                            </p:stCondLst>
                            <p:childTnLst>
                              <p:par>
                                <p:cTn id="26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457200" y="1752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هُ فَكَّرَ و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قَدّ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629400" y="35100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قَدّ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19320" y="35100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س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3510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124080" y="3510000"/>
            <a:ext cx="1360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434340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5" dur="indefinite" restart="never" nodeType="tmRoot">
          <p:childTnLst>
            <p:seq>
              <p:cTn id="2696" dur="indefinite" nodeType="mainSeq">
                <p:childTnLst>
                  <p:par>
                    <p:cTn id="2697" fill="hold">
                      <p:stCondLst>
                        <p:cond delay="0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3" dur="4441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500"/>
                            </p:stCondLst>
                            <p:childTnLst>
                              <p:par>
                                <p:cTn id="27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1" fill="hold">
                      <p:stCondLst>
                        <p:cond delay="indefinite"/>
                      </p:stCondLst>
                      <p:childTnLst>
                        <p:par>
                          <p:cTn id="2732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2120" y="1828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ثُمَّ عَبَسَ و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بَس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70572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َبَس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800600" y="3429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شّ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1800" y="3429000"/>
            <a:ext cx="1484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غض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066680" y="3429000"/>
            <a:ext cx="1517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ب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7" dur="indefinite" restart="never" nodeType="tmRoot">
          <p:childTnLst>
            <p:seq>
              <p:cTn id="2738" dur="indefinite" nodeType="mainSeq">
                <p:childTnLst>
                  <p:par>
                    <p:cTn id="2739" fill="hold">
                      <p:stCondLst>
                        <p:cond delay="0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45" dur="3344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0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1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2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3" fill="hold">
                            <p:stCondLst>
                              <p:cond delay="360"/>
                            </p:stCondLst>
                            <p:childTnLst>
                              <p:par>
                                <p:cTn id="27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4" fill="hold">
                            <p:stCondLst>
                              <p:cond delay="1360"/>
                            </p:stCondLst>
                            <p:childTnLst>
                              <p:par>
                                <p:cTn id="27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8" fill="hold">
                            <p:stCondLst>
                              <p:cond delay="1860"/>
                            </p:stCondLst>
                            <p:childTnLst>
                              <p:par>
                                <p:cTn id="27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8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9" dur="500" fill="hold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0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78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7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8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9" dur="10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2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4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0948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قَالَ إِنْ هَذَا إِلَّا سِحْرٌ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ؤْثَ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10280" y="320040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ُؤْثَر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257800" y="32050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رو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505320" y="32050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ُعمل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76520" y="32004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فرّق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202920" y="4572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يروى ويتعلم من السحر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6" dur="indefinite" restart="never" nodeType="tmRoot">
          <p:childTnLst>
            <p:seq>
              <p:cTn id="2797" dur="indefinite" nodeType="mainSeq">
                <p:childTnLst>
                  <p:par>
                    <p:cTn id="2798" fill="hold">
                      <p:stCondLst>
                        <p:cond delay="0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7" dur="7419" fill="hold"/>
                                        <p:tgtEl>
                                          <p:spTgt spid="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8" fill="hold">
                      <p:stCondLst>
                        <p:cond delay="indefinite"/>
                      </p:stCondLst>
                      <p:childTnLst>
                        <p:par>
                          <p:cTn id="2809" fill="hold">
                            <p:stCondLst>
                              <p:cond delay="0"/>
                            </p:stCondLst>
                            <p:childTnLst>
                              <p:par>
                                <p:cTn id="281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14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1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2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3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4" fill="hold">
                      <p:stCondLst>
                        <p:cond delay="indefinite"/>
                      </p:stCondLst>
                      <p:childTnLst>
                        <p:par>
                          <p:cTn id="2835" fill="hold">
                            <p:stCondLst>
                              <p:cond delay="0"/>
                            </p:stCondLst>
                            <p:childTnLst>
                              <p:par>
                                <p:cTn id="283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7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8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9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1" nodeType="withEffect" fill="hold" presetClass="exit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42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4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17524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فَمَنْ يَمْش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كِبّا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ى وَجْهِهِ أَهْدَى أَمَّنْ يَمْشِي سَوِيّاً عَلَى صِرَاطٍ مُسْتَقِي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لك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0" y="37339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كِبّ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738600"/>
            <a:ext cx="1589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سقط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1700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يص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3738600"/>
            <a:ext cx="1635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رح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8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760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60948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لَا تُبْقِي وَلَا تَذَر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وَّاحَةٌ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لِلْبَشَرِ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           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8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81680" y="3173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َوَّاح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3173400"/>
            <a:ext cx="1331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غيِّ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3173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هلك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124080" y="3173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ُقط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05360" y="419112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إنها تغيَّر لون البشرة إلى السواد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0" dur="indefinite" restart="never" nodeType="tmRoot">
          <p:childTnLst>
            <p:seq>
              <p:cTn id="2851" dur="indefinite" nodeType="mainSeq">
                <p:childTnLst>
                  <p:par>
                    <p:cTn id="2852" fill="hold">
                      <p:stCondLst>
                        <p:cond delay="0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58" dur="6845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4" fill="hold">
                            <p:stCondLst>
                              <p:cond delay="500"/>
                            </p:stCondLst>
                            <p:childTnLst>
                              <p:par>
                                <p:cTn id="28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7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3" fill="hold">
                      <p:stCondLst>
                        <p:cond delay="indefinite"/>
                      </p:stCondLst>
                      <p:childTnLst>
                        <p:par>
                          <p:cTn id="2884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6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88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1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2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3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6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7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6858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الصُّبْحِ إِذ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سْف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58000" y="35812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سْف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2920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نكش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200400" y="35812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ذه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219320" y="3581280"/>
            <a:ext cx="1592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طل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4" dur="indefinite" restart="never" nodeType="tmRoot">
          <p:childTnLst>
            <p:seq>
              <p:cTn id="2905" dur="indefinite" nodeType="mainSeq">
                <p:childTnLst>
                  <p:par>
                    <p:cTn id="2906" fill="hold">
                      <p:stCondLst>
                        <p:cond delay="0"/>
                      </p:stCondLst>
                      <p:childTnLst>
                        <p:par>
                          <p:cTn id="2907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9" dur="4598" fill="hold"/>
                                        <p:tgtEl>
                                          <p:spTgt spid="6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0" fill="hold">
                      <p:stCondLst>
                        <p:cond delay="indefinite"/>
                      </p:stCondLst>
                      <p:childTnLst>
                        <p:par>
                          <p:cTn id="2921" fill="hold">
                            <p:stCondLst>
                              <p:cond delay="0"/>
                            </p:stCondLst>
                            <p:childTnLst>
                              <p:par>
                                <p:cTn id="29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6" fill="hold">
                            <p:stCondLst>
                              <p:cond delay="500"/>
                            </p:stCondLst>
                            <p:childTnLst>
                              <p:par>
                                <p:cTn id="29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40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1" fill="hold">
                      <p:stCondLst>
                        <p:cond delay="indefinite"/>
                      </p:stCondLst>
                      <p:childTnLst>
                        <p:par>
                          <p:cTn id="2942" fill="hold">
                            <p:stCondLst>
                              <p:cond delay="0"/>
                            </p:stCondLst>
                            <p:childTnLst>
                              <p:par>
                                <p:cTn id="2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762120" y="16765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أَنَّهُم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مُرٌ مُسْتَنْف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رَّتْ مِ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سْوَرَة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دثر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0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956280" y="3276720"/>
            <a:ext cx="127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حُمُرٌ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763320" y="4038480"/>
            <a:ext cx="1672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ُسْتَنْف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32814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م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105520" y="32767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لوا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71600" y="32767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يوان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4038480"/>
            <a:ext cx="1438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ي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00400" y="40435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ف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295280" y="40384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تم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92240" y="5486400"/>
            <a:ext cx="89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:أنه  شبه الذين يعرضون عن الذكر كأنهم حمير هاربة من الاس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934320" y="4800600"/>
            <a:ext cx="12952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سْوَرَة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95280" y="48006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124080" y="4800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س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480528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ب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1219320" y="1905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7" dur="indefinite" restart="never" nodeType="tmRoot">
          <p:childTnLst>
            <p:seq>
              <p:cTn id="2948" dur="indefinite" nodeType="mainSeq">
                <p:childTnLst>
                  <p:par>
                    <p:cTn id="2949" fill="hold">
                      <p:stCondLst>
                        <p:cond delay="0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3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5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7" dur="9457" fill="hold"/>
                                        <p:tgtEl>
                                          <p:spTgt spid="6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6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6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9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08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10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0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3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4" dur="10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5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34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68580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َى قَادِرِينَ عَلَى أَنْ نُسَوّ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نَانَه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34320" y="365760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نَان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53120" y="3657600"/>
            <a:ext cx="2294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طراف أصابع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800600" y="3683160"/>
            <a:ext cx="1865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أس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85800" y="3657600"/>
            <a:ext cx="19051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ام جسد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5" dur="indefinite" restart="never" nodeType="tmRoot">
          <p:childTnLst>
            <p:seq>
              <p:cTn id="3046" dur="indefinite" nodeType="mainSeq">
                <p:childTnLst>
                  <p:par>
                    <p:cTn id="3047" fill="hold">
                      <p:stCondLst>
                        <p:cond delay="0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1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2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3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4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6" dur="7576" fill="hold"/>
                                        <p:tgtEl>
                                          <p:spTgt spid="6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7" fill="hold">
                      <p:stCondLst>
                        <p:cond delay="indefinite"/>
                      </p:stCondLst>
                      <p:childTnLst>
                        <p:par>
                          <p:cTn id="3058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3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6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7" fill="hold">
                      <p:stCondLst>
                        <p:cond delay="indefinite"/>
                      </p:stCondLst>
                      <p:childTnLst>
                        <p:par>
                          <p:cTn id="3078" fill="hold">
                            <p:stCondLst>
                              <p:cond delay="0"/>
                            </p:stCondLst>
                            <p:childTnLst>
                              <p:par>
                                <p:cTn id="307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80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1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2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085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6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7" dur="8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533520" y="1523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ْ يُرِيدُ الْأِنْسَان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يَفْجُرَ أَمَامَهُ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05720" y="3124080"/>
            <a:ext cx="146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لِيَفْجُ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952880" y="31291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شقّ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3124080"/>
            <a:ext cx="1353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نظ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95360" y="3124080"/>
            <a:ext cx="1424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يبن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05720" y="4114800"/>
            <a:ext cx="1436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أَمَام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71808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876920" y="4114800"/>
            <a:ext cx="1423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م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114800"/>
            <a:ext cx="1371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قب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71600" y="41148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يمانه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-44280" y="5029200"/>
            <a:ext cx="92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ليفجر أمامه : أي يريد الانسان أن يشق ستر الديانة  على مدى عمره وما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دام حياً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9" dur="indefinite" restart="never" nodeType="tmRoot">
          <p:childTnLst>
            <p:seq>
              <p:cTn id="3090" dur="indefinite" nodeType="mainSeq">
                <p:childTnLst>
                  <p:par>
                    <p:cTn id="3091" fill="hold">
                      <p:stCondLst>
                        <p:cond delay="0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7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9" dur="6479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0" fill="hold">
                      <p:stCondLst>
                        <p:cond delay="indefinite"/>
                      </p:stCondLst>
                      <p:childTnLst>
                        <p:par>
                          <p:cTn id="3101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8" fill="hold">
                            <p:stCondLst>
                              <p:cond delay="500"/>
                            </p:stCondLst>
                            <p:childTnLst>
                              <p:par>
                                <p:cTn id="31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1" fill="hold">
                      <p:stCondLst>
                        <p:cond delay="indefinite"/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24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5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6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129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0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1" dur="80"/>
                                        <p:tgtEl>
                                          <p:spTgt spid="6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3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3" fill="hold">
                            <p:stCondLst>
                              <p:cond delay="240"/>
                            </p:stCondLst>
                            <p:childTnLst>
                              <p:par>
                                <p:cTn id="3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6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7" fill="hold">
                            <p:stCondLst>
                              <p:cond delay="740"/>
                            </p:stCondLst>
                            <p:childTnLst>
                              <p:par>
                                <p:cTn id="31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1" fill="hold">
                            <p:stCondLst>
                              <p:cond delay="1240"/>
                            </p:stCondLst>
                            <p:childTnLst>
                              <p:par>
                                <p:cTn id="3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6" fill="hold">
                            <p:stCondLst>
                              <p:cond delay="1740"/>
                            </p:stCondLst>
                            <p:childTnLst>
                              <p:par>
                                <p:cTn id="31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1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2" fill="hold">
                      <p:stCondLst>
                        <p:cond delay="indefinite"/>
                      </p:stCondLst>
                      <p:childTnLst>
                        <p:par>
                          <p:cTn id="3153" fill="hold">
                            <p:stCondLst>
                              <p:cond delay="0"/>
                            </p:stCondLst>
                            <p:childTnLst>
                              <p:par>
                                <p:cTn id="315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5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6" dur="10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0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100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62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533520" y="160020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كَلَّا لا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وَزَر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لَى رَبِّكَ يَوْمَئِذٍ الْمُسْتَقَرُّ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010280" y="35100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زَر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124080" y="3478320"/>
            <a:ext cx="1468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لج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105520" y="351000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إث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219320" y="3478320"/>
            <a:ext cx="1447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746748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8" dur="indefinite" restart="never" nodeType="tmRoot">
          <p:childTnLst>
            <p:seq>
              <p:cTn id="3169" dur="indefinite" nodeType="mainSeq">
                <p:childTnLst>
                  <p:par>
                    <p:cTn id="3170" fill="hold">
                      <p:stCondLst>
                        <p:cond delay="0"/>
                      </p:stCondLst>
                      <p:childTnLst>
                        <p:par>
                          <p:cTn id="3171" fill="hold">
                            <p:stCondLst>
                              <p:cond delay="0"/>
                            </p:stCondLst>
                            <p:childTnLst>
                              <p:par>
                                <p:cTn id="31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6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8" dur="8203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9" fill="hold">
                      <p:stCondLst>
                        <p:cond delay="indefinite"/>
                      </p:stCondLst>
                      <p:childTnLst>
                        <p:par>
                          <p:cTn id="3180" fill="hold">
                            <p:stCondLst>
                              <p:cond delay="0"/>
                            </p:stCondLst>
                            <p:childTnLst>
                              <p:par>
                                <p:cTn id="3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5" fill="hold">
                            <p:stCondLst>
                              <p:cond delay="500"/>
                            </p:stCondLst>
                            <p:childTnLst>
                              <p:par>
                                <p:cTn id="3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9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5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9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03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4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5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08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9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0" dur="8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609480" y="16765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َلِ الْإِنْسَانُ عَلَى نَفْس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صِي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َوْ أَلْقَى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عَاذِيرَهُ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934320" y="4164120"/>
            <a:ext cx="12952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عَاذِيرَه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4164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عذا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105520" y="416412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ثقا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971800" y="41641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حار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934320" y="32767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َصِي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105520" y="3281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ج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971800" y="3325680"/>
            <a:ext cx="1595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ؤول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990720" y="3325680"/>
            <a:ext cx="1498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خيَّر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2666880" y="2209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2" dur="indefinite" restart="never" nodeType="tmRoot">
          <p:childTnLst>
            <p:seq>
              <p:cTn id="3213" dur="indefinite" nodeType="mainSeq">
                <p:childTnLst>
                  <p:par>
                    <p:cTn id="3214" fill="hold">
                      <p:stCondLst>
                        <p:cond delay="0"/>
                      </p:stCondLst>
                      <p:childTnLst>
                        <p:par>
                          <p:cTn id="3215" fill="hold">
                            <p:stCondLst>
                              <p:cond delay="0"/>
                            </p:stCondLst>
                            <p:childTnLst>
                              <p:par>
                                <p:cTn id="321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0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2" dur="10867" fill="hold"/>
                                        <p:tgtEl>
                                          <p:spTgt spid="6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fill="hold">
                      <p:stCondLst>
                        <p:cond delay="indefinite"/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8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9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4" fill="hold">
                      <p:stCondLst>
                        <p:cond delay="indefinite"/>
                      </p:stCondLst>
                      <p:childTnLst>
                        <p:par>
                          <p:cTn id="3245" fill="hold">
                            <p:stCondLst>
                              <p:cond delay="0"/>
                            </p:stCondLst>
                            <p:childTnLst>
                              <p:par>
                                <p:cTn id="32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47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8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9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252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3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4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6" fill="hold">
                            <p:stCondLst>
                              <p:cond delay="320"/>
                            </p:stCondLst>
                            <p:childTnLst>
                              <p:par>
                                <p:cTn id="32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0" fill="hold">
                            <p:stCondLst>
                              <p:cond delay="820"/>
                            </p:stCondLst>
                            <p:childTnLst>
                              <p:par>
                                <p:cTn id="3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3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5" fill="hold">
                            <p:stCondLst>
                              <p:cond delay="1320"/>
                            </p:stCondLst>
                            <p:childTnLst>
                              <p:par>
                                <p:cTn id="326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70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1" fill="hold">
                            <p:stCondLst>
                              <p:cond delay="2320"/>
                            </p:stCondLst>
                            <p:childTnLst>
                              <p:par>
                                <p:cTn id="3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5" fill="hold">
                      <p:stCondLst>
                        <p:cond delay="indefinite"/>
                      </p:stCondLst>
                      <p:childTnLst>
                        <p:par>
                          <p:cTn id="3276" fill="hold">
                            <p:stCondLst>
                              <p:cond delay="0"/>
                            </p:stCondLst>
                            <p:childTnLst>
                              <p:par>
                                <p:cTn id="327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8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9" dur="10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0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3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4" dur="10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5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685800" y="1905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ُجُوهٌ يَوْمَئِذ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ض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70240" y="3662280"/>
            <a:ext cx="1280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نَاض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952880" y="3662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شرق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808360" y="3662280"/>
            <a:ext cx="1687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بشر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62120" y="3662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بسة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7" dur="indefinite" restart="never" nodeType="tmRoot">
          <p:childTnLst>
            <p:seq>
              <p:cTn id="3288" dur="indefinite" nodeType="mainSeq">
                <p:childTnLst>
                  <p:par>
                    <p:cTn id="3289" fill="hold">
                      <p:stCondLst>
                        <p:cond delay="0"/>
                      </p:stCondLst>
                      <p:childTnLst>
                        <p:par>
                          <p:cTn id="3290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3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4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5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7" dur="5591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2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3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1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15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6" nodeType="with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20" dur="10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8" fill="hold">
                      <p:stCondLst>
                        <p:cond delay="indefinite"/>
                      </p:stCondLst>
                      <p:childTnLst>
                        <p:par>
                          <p:cTn id="3329" fill="hold">
                            <p:stCondLst>
                              <p:cond delay="0"/>
                            </p:stCondLst>
                            <p:childTnLst>
                              <p:par>
                                <p:cTn id="3330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31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2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3" dur="8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36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7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8" dur="80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41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2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3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457200" y="1828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 - M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تَظُنُّ أَنْ يُفْعَلَ بِ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قِرَة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(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238880" y="3478320"/>
            <a:ext cx="10875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قِرَة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623680" y="3478320"/>
            <a:ext cx="254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قسم ظهر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029200" y="3478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صيبة صغ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85800" y="3478320"/>
            <a:ext cx="20574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 يكسر عنق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5" dur="indefinite" restart="never" nodeType="tmRoot">
          <p:childTnLst>
            <p:seq>
              <p:cTn id="3346" dur="indefinite" nodeType="mainSeq">
                <p:childTnLst>
                  <p:par>
                    <p:cTn id="3347" fill="hold">
                      <p:stCondLst>
                        <p:cond delay="0"/>
                      </p:stCondLst>
                      <p:childTnLst>
                        <p:par>
                          <p:cTn id="3348" fill="hold">
                            <p:stCondLst>
                              <p:cond delay="0"/>
                            </p:stCondLst>
                            <p:childTnLst>
                              <p:par>
                                <p:cTn id="33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1" dur="8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2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3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4" dur="8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8" dur="6270" fill="hold"/>
                                        <p:tgtEl>
                                          <p:spTgt spid="7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9" fill="hold">
                      <p:stCondLst>
                        <p:cond delay="indefinite"/>
                      </p:stCondLst>
                      <p:childTnLst>
                        <p:par>
                          <p:cTn id="3360" fill="hold">
                            <p:stCondLst>
                              <p:cond delay="0"/>
                            </p:stCondLst>
                            <p:childTnLst>
                              <p:par>
                                <p:cTn id="33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8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2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2" fill="hold">
                      <p:stCondLst>
                        <p:cond delay="indefinite"/>
                      </p:stCondLst>
                      <p:childTnLst>
                        <p:par>
                          <p:cTn id="3383" fill="hold">
                            <p:stCondLst>
                              <p:cond delay="0"/>
                            </p:stCondLst>
                            <p:childTnLst>
                              <p:par>
                                <p:cTn id="3384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85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6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7" dur="8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9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390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1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2" dur="8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4572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لَّا إِذَا بَلَغَ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تَّرَاقِي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915600" y="3657600"/>
            <a:ext cx="1453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تَّرَاقِي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3657600"/>
            <a:ext cx="18288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ظام الصد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971800" y="3657600"/>
            <a:ext cx="16905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رق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38080" y="3657600"/>
            <a:ext cx="1825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فرا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4" dur="indefinite" restart="never" nodeType="tmRoot">
          <p:childTnLst>
            <p:seq>
              <p:cTn id="3395" dur="indefinite" nodeType="mainSeq">
                <p:childTnLst>
                  <p:par>
                    <p:cTn id="3396" fill="hold">
                      <p:stCondLst>
                        <p:cond delay="0"/>
                      </p:stCondLst>
                      <p:childTnLst>
                        <p:par>
                          <p:cTn id="3397" fill="hold">
                            <p:stCondLst>
                              <p:cond delay="0"/>
                            </p:stCondLst>
                            <p:childTnLst>
                              <p:par>
                                <p:cTn id="33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0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2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4" dur="6270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5" fill="hold">
                      <p:stCondLst>
                        <p:cond delay="indefinite"/>
                      </p:stCondLst>
                      <p:childTnLst>
                        <p:par>
                          <p:cTn id="3406" fill="hold">
                            <p:stCondLst>
                              <p:cond delay="0"/>
                            </p:stCondLst>
                            <p:childTnLst>
                              <p:par>
                                <p:cTn id="3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3" fill="hold">
                      <p:stCondLst>
                        <p:cond delay="indefinite"/>
                      </p:stCondLst>
                      <p:childTnLst>
                        <p:par>
                          <p:cTn id="3424" fill="hold">
                            <p:stCondLst>
                              <p:cond delay="0"/>
                            </p:stCondLst>
                            <p:childTnLst>
                              <p:par>
                                <p:cTn id="3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19810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سَتُبْصِرُ وَيُبْصِرُونَ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بِأَيِّكُمُ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الْمَفْتُونُ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قلم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: 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96360" y="3657600"/>
            <a:ext cx="1521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الْمَفْتُونُ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3657600"/>
            <a:ext cx="1620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بت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3657600"/>
            <a:ext cx="1584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عج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657600"/>
            <a:ext cx="169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خدو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1143000" y="2362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38080" y="4495680"/>
            <a:ext cx="7315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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أنه إذا لم تكن مجنونا بل مدَّعي النبوة فسيظهر أمر دعوتك وينكش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لى الابصار والبصائر من المبتلي بالجنون أنت أو المكذبون الرَّامون لك بالجنو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7106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60948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قِيلَ مَن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قٍ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قيامة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200400" y="342900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داو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37160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اعد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105520" y="34290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حر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858000" y="3429000"/>
            <a:ext cx="12193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رَاقٍ</a:t>
            </a:r>
            <a:r>
              <a:rPr b="0" lang="en-US" sz="2800" spc="-1" strike="noStrike">
                <a:solidFill>
                  <a:srgbClr val="d002a4"/>
                </a:solidFill>
                <a:latin typeface="Arial"/>
                <a:ea typeface="Arial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9" dur="indefinite" restart="never" nodeType="tmRoot">
          <p:childTnLst>
            <p:seq>
              <p:cTn id="3430" dur="indefinite" nodeType="mainSeq">
                <p:childTnLst>
                  <p:par>
                    <p:cTn id="3431" fill="hold">
                      <p:stCondLst>
                        <p:cond delay="0"/>
                      </p:stCondLst>
                      <p:childTnLst>
                        <p:par>
                          <p:cTn id="3432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5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6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7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39" dur="3762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0" fill="hold">
                      <p:stCondLst>
                        <p:cond delay="indefinite"/>
                      </p:stCondLst>
                      <p:childTnLst>
                        <p:par>
                          <p:cTn id="3441" fill="hold">
                            <p:stCondLst>
                              <p:cond delay="0"/>
                            </p:stCondLst>
                            <p:childTnLst>
                              <p:par>
                                <p:cTn id="34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4" dur="8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5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6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7" dur="8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0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2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3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4" dur="5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5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6" fill="hold">
                      <p:stCondLst>
                        <p:cond delay="indefinite"/>
                      </p:stCondLst>
                      <p:childTnLst>
                        <p:par>
                          <p:cTn id="3477" fill="hold">
                            <p:stCondLst>
                              <p:cond delay="0"/>
                            </p:stCondLst>
                            <p:childTnLst>
                              <p:par>
                                <p:cTn id="34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9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0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3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4" dur="5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7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8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7621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ثُمَّ ذَهَبَ إِلَى أَهْلِه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َتَمَطَّى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790680" y="3510000"/>
            <a:ext cx="1506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يَتَمَطَّ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ى</a:t>
            </a:r>
            <a:r>
              <a:rPr b="0" lang="en-US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57080" y="3505320"/>
            <a:ext cx="2096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بختر ويخت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029200" y="3505320"/>
            <a:ext cx="16923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مشي بسرع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47160" y="3510000"/>
            <a:ext cx="2381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كاسل بمشيت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09480" y="4687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يتمطى : وهو تمدد البدن من الكسل وأصله أن يلوي مطاه أي ظهره ، والمراد بتمطيه في ذهابه التبختر والاختيال استعار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0" dur="indefinite" restart="never" nodeType="tmRoot">
          <p:childTnLst>
            <p:seq>
              <p:cTn id="3491" dur="indefinite" nodeType="mainSeq">
                <p:childTnLst>
                  <p:par>
                    <p:cTn id="3492" fill="hold">
                      <p:stCondLst>
                        <p:cond delay="0"/>
                      </p:stCondLst>
                      <p:childTnLst>
                        <p:par>
                          <p:cTn id="3493" fill="hold">
                            <p:stCondLst>
                              <p:cond delay="0"/>
                            </p:stCondLst>
                            <p:childTnLst>
                              <p:par>
                                <p:cTn id="3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9" dur="7419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0" fill="hold">
                      <p:stCondLst>
                        <p:cond delay="indefinite"/>
                      </p:stCondLst>
                      <p:childTnLst>
                        <p:par>
                          <p:cTn id="3501" fill="hold">
                            <p:stCondLst>
                              <p:cond delay="0"/>
                            </p:stCondLst>
                            <p:childTnLst>
                              <p:par>
                                <p:cTn id="35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8" fill="hold">
                            <p:stCondLst>
                              <p:cond delay="500"/>
                            </p:stCondLst>
                            <p:childTnLst>
                              <p:par>
                                <p:cTn id="3509" nodeType="after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1" dur="8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2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3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4" dur="8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4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6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7" fill="hold">
                      <p:stCondLst>
                        <p:cond delay="indefinite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30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1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2" dur="8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535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6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7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9" fill="hold">
                            <p:stCondLst>
                              <p:cond delay="520"/>
                            </p:stCondLst>
                            <p:childTnLst>
                              <p:par>
                                <p:cTn id="3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533520" y="2057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يَحْسَبُ الْأِنْسَانُ أَنْ يُتْرَ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ُدى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يامة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6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010280" y="381492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سُدى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380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همل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048120" y="3809880"/>
            <a:ext cx="1554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143000" y="3809880"/>
            <a:ext cx="1467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3" dur="indefinite" restart="never" nodeType="tmRoot">
          <p:childTnLst>
            <p:seq>
              <p:cTn id="3544" dur="indefinite" nodeType="mainSeq">
                <p:childTnLst>
                  <p:par>
                    <p:cTn id="3545" fill="hold">
                      <p:stCondLst>
                        <p:cond delay="0"/>
                      </p:stCondLst>
                      <p:childTnLst>
                        <p:par>
                          <p:cTn id="3546" fill="hold">
                            <p:stCondLst>
                              <p:cond delay="0"/>
                            </p:stCondLst>
                            <p:childTnLst>
                              <p:par>
                                <p:cTn id="35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51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3" dur="6845" fill="hold"/>
                                        <p:tgtEl>
                                          <p:spTgt spid="7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4" fill="hold">
                      <p:stCondLst>
                        <p:cond delay="indefinite"/>
                      </p:stCondLst>
                      <p:childTnLst>
                        <p:par>
                          <p:cTn id="3555" fill="hold">
                            <p:stCondLst>
                              <p:cond delay="0"/>
                            </p:stCondLst>
                            <p:childTnLst>
                              <p:par>
                                <p:cTn id="3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9" fill="hold">
                            <p:stCondLst>
                              <p:cond delay="500"/>
                            </p:stCondLst>
                            <p:childTnLst>
                              <p:par>
                                <p:cTn id="3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6" dur="8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7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8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9" dur="8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4" dur="8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5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6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7" dur="8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7" fill="hold">
                      <p:stCondLst>
                        <p:cond delay="indefinite"/>
                      </p:stCondLst>
                      <p:childTnLst>
                        <p:par>
                          <p:cTn id="3588" fill="hold">
                            <p:stCondLst>
                              <p:cond delay="0"/>
                            </p:stCondLst>
                            <p:childTnLst>
                              <p:par>
                                <p:cTn id="358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0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1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2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4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5" dur="10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6" dur="100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7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600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-304920" y="-763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533520" y="182880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خَلَقْنَا الْأِنْسَانَ مِنْ نُطْفَة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مْشَاج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بْتَلِيهِ فَجَعَلْنَاهُ سَمِيعاً بَص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0" y="38862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َمْشَاج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81320" y="3886200"/>
            <a:ext cx="2312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خلاط ممزوج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3886200"/>
            <a:ext cx="183816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ماء ممزوج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743200" y="3886200"/>
            <a:ext cx="1981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شكال مختلف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2" dur="indefinite" restart="never" nodeType="tmRoot">
          <p:childTnLst>
            <p:seq>
              <p:cTn id="3603" dur="indefinite" nodeType="mainSeq">
                <p:childTnLst>
                  <p:par>
                    <p:cTn id="3604" fill="hold">
                      <p:stCondLst>
                        <p:cond delay="0"/>
                      </p:stCondLst>
                      <p:childTnLst>
                        <p:par>
                          <p:cTn id="3605" fill="hold">
                            <p:stCondLst>
                              <p:cond delay="0"/>
                            </p:stCondLst>
                            <p:childTnLst>
                              <p:par>
                                <p:cTn id="360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1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7" dur="15517" fill="hold"/>
                                        <p:tgtEl>
                                          <p:spTgt spid="7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8" fill="hold">
                      <p:stCondLst>
                        <p:cond delay="indefinite"/>
                      </p:stCondLst>
                      <p:childTnLst>
                        <p:par>
                          <p:cTn id="3619" fill="hold">
                            <p:stCondLst>
                              <p:cond delay="0"/>
                            </p:stCondLst>
                            <p:childTnLst>
                              <p:par>
                                <p:cTn id="36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24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fill="hold">
                      <p:stCondLst>
                        <p:cond delay="indefinite"/>
                      </p:stCondLst>
                      <p:childTnLst>
                        <p:par>
                          <p:cTn id="3640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1295280" y="160020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إِنَّ الْأَبْرَارَ يَشْرَبُونَ مِنْ كَأْسٍ كَان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ِزَاجُهَا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كَافُو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958800" y="3581280"/>
            <a:ext cx="1355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ِزَاجُه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زيج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048120" y="35863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طعم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143000" y="35863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رائحت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5" dur="indefinite" restart="never" nodeType="tmRoot">
          <p:childTnLst>
            <p:seq>
              <p:cTn id="3646" dur="indefinite" nodeType="mainSeq">
                <p:childTnLst>
                  <p:par>
                    <p:cTn id="3647" fill="hold">
                      <p:stCondLst>
                        <p:cond delay="0"/>
                      </p:stCondLst>
                      <p:childTnLst>
                        <p:par>
                          <p:cTn id="3648" fill="hold">
                            <p:stCondLst>
                              <p:cond delay="0"/>
                            </p:stCondLst>
                            <p:childTnLst>
                              <p:par>
                                <p:cTn id="36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53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5" dur="11547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6" fill="hold">
                      <p:stCondLst>
                        <p:cond delay="indefinite"/>
                      </p:stCondLst>
                      <p:childTnLst>
                        <p:par>
                          <p:cTn id="3657" fill="hold">
                            <p:stCondLst>
                              <p:cond delay="0"/>
                            </p:stCondLst>
                            <p:childTnLst>
                              <p:par>
                                <p:cTn id="3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4" fill="hold">
                      <p:stCondLst>
                        <p:cond delay="indefinite"/>
                      </p:stCondLst>
                      <p:childTnLst>
                        <p:par>
                          <p:cTn id="3675" fill="hold">
                            <p:stCondLst>
                              <p:cond delay="0"/>
                            </p:stCondLst>
                            <p:childTnLst>
                              <p:par>
                                <p:cTn id="36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>
            <a:off x="838080" y="17524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وفون بالنذر ويخافون يوما كان شره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مستطير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     ( الإنسان :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7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713280" y="3586320"/>
            <a:ext cx="1686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مستطيرا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952880" y="35812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نتش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895480" y="35812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كبي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066680" y="3581280"/>
            <a:ext cx="1430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حتو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0" dur="indefinite" restart="never" nodeType="tmRoot">
          <p:childTnLst>
            <p:seq>
              <p:cTn id="3681" dur="indefinite" nodeType="mainSeq">
                <p:childTnLst>
                  <p:par>
                    <p:cTn id="3682" fill="hold">
                      <p:stCondLst>
                        <p:cond delay="0"/>
                      </p:stCondLst>
                      <p:childTnLst>
                        <p:par>
                          <p:cTn id="3683" fill="hold">
                            <p:stCondLst>
                              <p:cond delay="0"/>
                            </p:stCondLst>
                            <p:childTnLst>
                              <p:par>
                                <p:cTn id="36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9" dur="11048" fill="hold"/>
                                        <p:tgtEl>
                                          <p:spTgt spid="7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0" fill="hold">
                      <p:stCondLst>
                        <p:cond delay="indefinite"/>
                      </p:stCondLst>
                      <p:childTnLst>
                        <p:par>
                          <p:cTn id="3691" fill="hold">
                            <p:stCondLst>
                              <p:cond delay="0"/>
                            </p:stCondLst>
                            <p:childTnLst>
                              <p:par>
                                <p:cTn id="36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5" fill="hold">
                            <p:stCondLst>
                              <p:cond delay="500"/>
                            </p:stCondLst>
                            <p:childTnLst>
                              <p:par>
                                <p:cTn id="36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8" fill="hold">
                      <p:stCondLst>
                        <p:cond delay="indefinite"/>
                      </p:stCondLst>
                      <p:childTnLst>
                        <p:par>
                          <p:cTn id="3709" fill="hold">
                            <p:stCondLst>
                              <p:cond delay="0"/>
                            </p:stCondLst>
                            <p:childTnLst>
                              <p:par>
                                <p:cTn id="371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1" dur="10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2" dur="100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6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7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8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1447920" y="17524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ا نَخَافُ مِنْ رَبِّنَا يَوْماً عَبُوسا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مْطَرِي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722640" y="3706920"/>
            <a:ext cx="1675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مْطَرِير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124080" y="37386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شدي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029200" y="37386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سوداً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219320" y="3738600"/>
            <a:ext cx="1496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غائم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3"/>
          <a:stretch/>
        </p:blipFill>
        <p:spPr>
          <a:xfrm>
            <a:off x="289548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0" dur="indefinite" restart="never" nodeType="tmRoot">
          <p:childTnLst>
            <p:seq>
              <p:cTn id="3721" dur="indefinite" nodeType="mainSeq">
                <p:childTnLst>
                  <p:par>
                    <p:cTn id="3722" fill="hold">
                      <p:stCondLst>
                        <p:cond delay="0"/>
                      </p:stCondLst>
                      <p:childTnLst>
                        <p:par>
                          <p:cTn id="3723" fill="hold">
                            <p:stCondLst>
                              <p:cond delay="0"/>
                            </p:stCondLst>
                            <p:childTnLst>
                              <p:par>
                                <p:cTn id="37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6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9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1" dur="10084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2" fill="hold">
                      <p:stCondLst>
                        <p:cond delay="indefinite"/>
                      </p:stCondLst>
                      <p:childTnLst>
                        <p:par>
                          <p:cTn id="3733" fill="hold">
                            <p:stCondLst>
                              <p:cond delay="0"/>
                            </p:stCondLst>
                            <p:childTnLst>
                              <p:par>
                                <p:cTn id="37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3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7" fill="hold">
                            <p:stCondLst>
                              <p:cond delay="500"/>
                            </p:stCondLst>
                            <p:childTnLst>
                              <p:par>
                                <p:cTn id="37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1" fill="hold">
                      <p:stCondLst>
                        <p:cond delay="indefinite"/>
                      </p:stCondLst>
                      <p:childTnLst>
                        <p:par>
                          <p:cTn id="3752" fill="hold">
                            <p:stCondLst>
                              <p:cond delay="0"/>
                            </p:stCondLst>
                            <p:childTnLst>
                              <p:par>
                                <p:cTn id="375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54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5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6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759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0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1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76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1523880" y="167652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دَانِيَةً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عَلَيْهِمْ ظِلالُهَا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ذُلِّلَتْ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قُطُوفُهَا تَذْلِيل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    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781680" y="3352680"/>
            <a:ext cx="129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دَانِيَة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781680" y="4419720"/>
            <a:ext cx="129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ذُلِّل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90720" y="33526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قري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800600" y="3357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ظل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895480" y="3352680"/>
            <a:ext cx="158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توي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800600" y="44197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ُخِر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14840" y="4419720"/>
            <a:ext cx="1785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وطابت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90720" y="4419720"/>
            <a:ext cx="1536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وسَهُل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4419720" y="2743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3" dur="indefinite" restart="never" nodeType="tmRoot">
          <p:childTnLst>
            <p:seq>
              <p:cTn id="3764" dur="indefinite" nodeType="mainSeq">
                <p:childTnLst>
                  <p:par>
                    <p:cTn id="3765" fill="hold">
                      <p:stCondLst>
                        <p:cond delay="0"/>
                      </p:stCondLst>
                      <p:childTnLst>
                        <p:par>
                          <p:cTn id="3766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9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0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1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73" dur="10345" fill="hold"/>
                                        <p:tgtEl>
                                          <p:spTgt spid="7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fill="hold">
                      <p:stCondLst>
                        <p:cond delay="indefinite"/>
                      </p:stCondLst>
                      <p:childTnLst>
                        <p:par>
                          <p:cTn id="3775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8" dur="8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9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0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1" dur="8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5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1" fill="hold">
                      <p:stCondLst>
                        <p:cond delay="indefinite"/>
                      </p:stCondLst>
                      <p:childTnLst>
                        <p:par>
                          <p:cTn id="3802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04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5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6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09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0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1" dur="8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3" fill="hold">
                            <p:stCondLst>
                              <p:cond delay="280"/>
                            </p:stCondLst>
                            <p:childTnLst>
                              <p:par>
                                <p:cTn id="38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8" fill="hold">
                            <p:stCondLst>
                              <p:cond delay="780"/>
                            </p:stCondLst>
                            <p:childTnLst>
                              <p:par>
                                <p:cTn id="38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2" fill="hold">
                            <p:stCondLst>
                              <p:cond delay="1280"/>
                            </p:stCondLst>
                            <p:childTnLst>
                              <p:par>
                                <p:cTn id="38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7" fill="hold">
                            <p:stCondLst>
                              <p:cond delay="1780"/>
                            </p:stCondLst>
                            <p:childTnLst>
                              <p:par>
                                <p:cTn id="38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2" fill="hold">
                      <p:stCondLst>
                        <p:cond delay="indefinite"/>
                      </p:stCondLst>
                      <p:childTnLst>
                        <p:par>
                          <p:cTn id="3833" fill="hold">
                            <p:stCondLst>
                              <p:cond delay="0"/>
                            </p:stCondLst>
                            <p:childTnLst>
                              <p:par>
                                <p:cTn id="383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5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6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7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0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1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2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219320" y="14479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يُطَافُ عَلَيْهِمْ بِآنِيَةٍ مِنْ فِضَّةٍ وَأَكْوَابٍ كَانَتْ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وَارِيرَا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انسان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6394320" y="3200400"/>
            <a:ext cx="1530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وَارِيرَا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590920" y="4043520"/>
            <a:ext cx="3124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 من 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590920" y="3200400"/>
            <a:ext cx="3139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رار من فخار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514600" y="4876920"/>
            <a:ext cx="3200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أكواب من زجا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4" dur="indefinite" restart="never" nodeType="tmRoot">
          <p:childTnLst>
            <p:seq>
              <p:cTn id="3845" dur="indefinite" nodeType="mainSeq">
                <p:childTnLst>
                  <p:par>
                    <p:cTn id="3846" fill="hold">
                      <p:stCondLst>
                        <p:cond delay="0"/>
                      </p:stCondLst>
                      <p:childTnLst>
                        <p:par>
                          <p:cTn id="3847" fill="hold">
                            <p:stCondLst>
                              <p:cond delay="0"/>
                            </p:stCondLst>
                            <p:childTnLst>
                              <p:par>
                                <p:cTn id="38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53" dur="14368" fill="hold"/>
                                        <p:tgtEl>
                                          <p:spTgt spid="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4" fill="hold">
                      <p:stCondLst>
                        <p:cond delay="indefinite"/>
                      </p:stCondLst>
                      <p:childTnLst>
                        <p:par>
                          <p:cTn id="3855" fill="hold">
                            <p:stCondLst>
                              <p:cond delay="0"/>
                            </p:stCondLst>
                            <p:childTnLst>
                              <p:par>
                                <p:cTn id="38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8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9" fill="hold">
                            <p:stCondLst>
                              <p:cond delay="500"/>
                            </p:stCondLst>
                            <p:childTnLst>
                              <p:par>
                                <p:cTn id="38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2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4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9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0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1" dur="500" fill="hold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2" dur="50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78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8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2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3" fill="hold">
                      <p:stCondLst>
                        <p:cond delay="indefinite"/>
                      </p:stCondLst>
                      <p:childTnLst>
                        <p:par>
                          <p:cTn id="3884" fill="hold">
                            <p:stCondLst>
                              <p:cond delay="0"/>
                            </p:stCondLst>
                            <p:childTnLst>
                              <p:par>
                                <p:cTn id="388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86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7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8" dur="80"/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91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2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3" dur="8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5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896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7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8" dur="8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533520" y="19051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الْمُرْسَلا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ر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934320" y="349416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ر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105520" y="351000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تتابع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19520" y="3505320"/>
            <a:ext cx="20523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فرادى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38080" y="3505320"/>
            <a:ext cx="1752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990720" y="4511520"/>
            <a:ext cx="701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رف : أي الشعر النابت على عنق الفرس ، وشبه الملائكة وه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تتابع بالوحي كعرف الفرس وهو يجري بتتابعها ويقال جاؤوا كعرف الفر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0" dur="indefinite" restart="never" nodeType="tmRoot">
          <p:childTnLst>
            <p:seq>
              <p:cTn id="3901" dur="indefinite" nodeType="mainSeq">
                <p:childTnLst>
                  <p:par>
                    <p:cTn id="3902" fill="hold">
                      <p:stCondLst>
                        <p:cond delay="0"/>
                      </p:stCondLst>
                      <p:childTnLst>
                        <p:par>
                          <p:cTn id="3903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6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8" dur="3553" fill="hold"/>
                                        <p:tgtEl>
                                          <p:spTgt spid="8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9" fill="hold">
                      <p:stCondLst>
                        <p:cond delay="indefinite"/>
                      </p:stCondLst>
                      <p:childTnLst>
                        <p:par>
                          <p:cTn id="3910" fill="hold">
                            <p:stCondLst>
                              <p:cond delay="0"/>
                            </p:stCondLst>
                            <p:childTnLst>
                              <p:par>
                                <p:cTn id="3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4" fill="hold">
                            <p:stCondLst>
                              <p:cond delay="500"/>
                            </p:stCondLst>
                            <p:childTnLst>
                              <p:par>
                                <p:cTn id="391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7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5" fill="hold">
                            <p:stCondLst>
                              <p:cond delay="0"/>
                            </p:stCondLst>
                            <p:childTnLst>
                              <p:par>
                                <p:cTn id="39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23880" y="19051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لا تُطِعْ كُلَّ حَلَّافٍ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مَهِين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0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3809880"/>
            <a:ext cx="1325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380988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ق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3809880"/>
            <a:ext cx="1519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كا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809880"/>
            <a:ext cx="146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عي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5695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0" name=""/>
          <p:cNvSpPr/>
          <p:nvPr/>
        </p:nvSpPr>
        <p:spPr>
          <a:xfrm>
            <a:off x="533520" y="16765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الْعَاصِفَاتِ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َصْف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629400" y="3505320"/>
            <a:ext cx="1295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َصْف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507920" y="3505320"/>
            <a:ext cx="20034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رعة الس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531160" y="3505320"/>
            <a:ext cx="2178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شدة الص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4680" y="3505320"/>
            <a:ext cx="21650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تراكم الغي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-13320" y="4495680"/>
            <a:ext cx="90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عصفا : المراد بالعصف سرعة السير إستعارة من عصف الريح أي سرع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هبوبها إشارة إلى سرعة سيرها إلى ما أرسلت إليه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39" dur="indefinite" restart="never" nodeType="tmRoot">
          <p:childTnLst>
            <p:seq>
              <p:cTn id="3940" dur="indefinite" nodeType="mainSeq">
                <p:childTnLst>
                  <p:par>
                    <p:cTn id="3941" fill="hold">
                      <p:stCondLst>
                        <p:cond delay="0"/>
                      </p:stCondLst>
                      <p:childTnLst>
                        <p:par>
                          <p:cTn id="3942" fill="hold">
                            <p:stCondLst>
                              <p:cond delay="0"/>
                            </p:stCondLst>
                            <p:childTnLst>
                              <p:par>
                                <p:cTn id="39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47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9" dur="3396" fill="hold"/>
                                        <p:tgtEl>
                                          <p:spTgt spid="8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0" fill="hold">
                      <p:stCondLst>
                        <p:cond delay="indefinite"/>
                      </p:stCondLst>
                      <p:childTnLst>
                        <p:par>
                          <p:cTn id="3951" fill="hold">
                            <p:stCondLst>
                              <p:cond delay="0"/>
                            </p:stCondLst>
                            <p:childTnLst>
                              <p:par>
                                <p:cTn id="3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4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5" fill="hold">
                            <p:stCondLst>
                              <p:cond delay="500"/>
                            </p:stCondLst>
                            <p:childTnLst>
                              <p:par>
                                <p:cTn id="39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0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1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1" fill="hold">
                      <p:stCondLst>
                        <p:cond delay="indefinite"/>
                      </p:stCondLst>
                      <p:childTnLst>
                        <p:par>
                          <p:cTn id="3972" fill="hold">
                            <p:stCondLst>
                              <p:cond delay="0"/>
                            </p:stCondLst>
                            <p:childTnLst>
                              <p:par>
                                <p:cTn id="39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7" fill="hold">
                            <p:stCondLst>
                              <p:cond delay="0"/>
                            </p:stCondLst>
                            <p:childTnLst>
                              <p:par>
                                <p:cTn id="3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0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533520" y="1981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نَّاشِر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نَشْر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429600" y="3048120"/>
            <a:ext cx="18997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وَالنَّاشِرَات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676520" y="373392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شرات الصح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76520" y="305280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قلات الكلا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676520" y="4419720"/>
            <a:ext cx="4190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املات خبر المو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69120" y="52578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والناشرات : أي وقسماً بالملائكة الناشرين لصحف الوحي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3"/>
          <a:stretch/>
        </p:blipFill>
        <p:spPr>
          <a:xfrm>
            <a:off x="1828800" y="1905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1" dur="indefinite" restart="never" nodeType="tmRoot">
          <p:childTnLst>
            <p:seq>
              <p:cTn id="3982" dur="indefinite" nodeType="mainSeq">
                <p:childTnLst>
                  <p:par>
                    <p:cTn id="3983" fill="hold">
                      <p:stCondLst>
                        <p:cond delay="0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90" dur="4022" fill="hold"/>
                                        <p:tgtEl>
                                          <p:spTgt spid="8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1" fill="hold">
                      <p:stCondLst>
                        <p:cond delay="indefinite"/>
                      </p:stCondLst>
                      <p:childTnLst>
                        <p:par>
                          <p:cTn id="3992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5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9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0" fill="hold">
                      <p:stCondLst>
                        <p:cond delay="indefinite"/>
                      </p:stCondLst>
                      <p:childTnLst>
                        <p:par>
                          <p:cTn id="4011" fill="hold">
                            <p:stCondLst>
                              <p:cond delay="0"/>
                            </p:stCondLst>
                            <p:childTnLst>
                              <p:par>
                                <p:cTn id="4012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13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4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5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7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018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9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0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2" fill="hold">
                            <p:stCondLst>
                              <p:cond delay="600"/>
                            </p:stCondLst>
                            <p:childTnLst>
                              <p:par>
                                <p:cTn id="40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40" name=""/>
          <p:cNvSpPr/>
          <p:nvPr/>
        </p:nvSpPr>
        <p:spPr>
          <a:xfrm>
            <a:off x="380880" y="167652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لْفَارِقَاتِ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فَرْق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4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26800" y="3630600"/>
            <a:ext cx="18356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َالْفَارِقَات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952880" y="3630600"/>
            <a:ext cx="1524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لمفرق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71800" y="3630600"/>
            <a:ext cx="1676520" cy="137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لمتفرق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074600" y="3630600"/>
            <a:ext cx="1592280" cy="13737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المختلف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7600" y="4687920"/>
            <a:ext cx="86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الفارقات : المراد به التفريق بين الحق والباطل وبين الحلال والحر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6" dur="indefinite" restart="never" nodeType="tmRoot">
          <p:childTnLst>
            <p:seq>
              <p:cTn id="4027" dur="indefinite" nodeType="mainSeq">
                <p:childTnLst>
                  <p:par>
                    <p:cTn id="4028" fill="hold">
                      <p:stCondLst>
                        <p:cond delay="0"/>
                      </p:stCondLst>
                      <p:childTnLst>
                        <p:par>
                          <p:cTn id="4029" fill="hold">
                            <p:stCondLst>
                              <p:cond delay="0"/>
                            </p:stCondLst>
                            <p:childTnLst>
                              <p:par>
                                <p:cTn id="40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2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3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4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6" dur="3553" fill="hold"/>
                                        <p:tgtEl>
                                          <p:spTgt spid="8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7" fill="hold">
                      <p:stCondLst>
                        <p:cond delay="indefinite"/>
                      </p:stCondLst>
                      <p:childTnLst>
                        <p:par>
                          <p:cTn id="4038" fill="hold">
                            <p:stCondLst>
                              <p:cond delay="0"/>
                            </p:stCondLst>
                            <p:childTnLst>
                              <p:par>
                                <p:cTn id="40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3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5" fill="hold">
                            <p:stCondLst>
                              <p:cond delay="500"/>
                            </p:stCondLst>
                            <p:childTnLst>
                              <p:par>
                                <p:cTn id="40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9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59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0" fill="hold">
                      <p:stCondLst>
                        <p:cond delay="indefinite"/>
                      </p:stCondLst>
                      <p:childTnLst>
                        <p:par>
                          <p:cTn id="4061" fill="hold">
                            <p:stCondLst>
                              <p:cond delay="0"/>
                            </p:stCondLst>
                            <p:childTnLst>
                              <p:par>
                                <p:cTn id="40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6" fill="hold">
                            <p:stCondLst>
                              <p:cond delay="0"/>
                            </p:stCondLst>
                            <p:childTnLst>
                              <p:par>
                                <p:cTn id="40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0" name=""/>
          <p:cNvSpPr/>
          <p:nvPr/>
        </p:nvSpPr>
        <p:spPr>
          <a:xfrm>
            <a:off x="533520" y="1752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إِذَا النُّجُوم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ُمِس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8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873840" y="3554280"/>
            <a:ext cx="1532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طُمِس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143000" y="3554280"/>
            <a:ext cx="16336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حيَّ أثر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181480" y="35542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فجر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200400" y="355428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سقطت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70" dur="indefinite" restart="never" nodeType="tmRoot">
          <p:childTnLst>
            <p:seq>
              <p:cTn id="4071" dur="indefinite" nodeType="mainSeq">
                <p:childTnLst>
                  <p:par>
                    <p:cTn id="4072" fill="hold">
                      <p:stCondLst>
                        <p:cond delay="0"/>
                      </p:stCondLst>
                      <p:childTnLst>
                        <p:par>
                          <p:cTn id="4073" fill="hold">
                            <p:stCondLst>
                              <p:cond delay="0"/>
                            </p:stCondLst>
                            <p:childTnLst>
                              <p:par>
                                <p:cTn id="40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9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5" dur="3867" fill="hold"/>
                                        <p:tgtEl>
                                          <p:spTgt spid="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6" fill="hold">
                      <p:stCondLst>
                        <p:cond delay="indefinite"/>
                      </p:stCondLst>
                      <p:childTnLst>
                        <p:par>
                          <p:cTn id="4087" fill="hold">
                            <p:stCondLst>
                              <p:cond delay="0"/>
                            </p:stCondLst>
                            <p:childTnLst>
                              <p:par>
                                <p:cTn id="40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1" fill="hold">
                            <p:stCondLst>
                              <p:cond delay="500"/>
                            </p:stCondLst>
                            <p:childTnLst>
                              <p:par>
                                <p:cTn id="409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8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9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0" dur="500" fill="hold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1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6" fill="hold">
                      <p:stCondLst>
                        <p:cond delay="indefinite"/>
                      </p:stCondLst>
                      <p:childTnLst>
                        <p:par>
                          <p:cTn id="4117" fill="hold">
                            <p:stCondLst>
                              <p:cond delay="0"/>
                            </p:stCondLst>
                            <p:childTnLst>
                              <p:par>
                                <p:cTn id="411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19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0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1" dur="8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2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24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5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6" dur="8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2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8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129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0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1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457200" y="1676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ذَا السَّمَاء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ِجَتْ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9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869880" y="3510000"/>
            <a:ext cx="1312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ِج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200400" y="3505320"/>
            <a:ext cx="154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انش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02920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فع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295280" y="350532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نسف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3" dur="indefinite" restart="never" nodeType="tmRoot">
          <p:childTnLst>
            <p:seq>
              <p:cTn id="4134" dur="indefinite" nodeType="mainSeq">
                <p:childTnLst>
                  <p:par>
                    <p:cTn id="4135" fill="hold">
                      <p:stCondLst>
                        <p:cond delay="0"/>
                      </p:stCondLst>
                      <p:childTnLst>
                        <p:par>
                          <p:cTn id="4136" fill="hold">
                            <p:stCondLst>
                              <p:cond delay="0"/>
                            </p:stCondLst>
                            <p:childTnLst>
                              <p:par>
                                <p:cTn id="4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2" dur="4494" fill="hold"/>
                                        <p:tgtEl>
                                          <p:spTgt spid="8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3" fill="hold">
                      <p:stCondLst>
                        <p:cond delay="indefinite"/>
                      </p:stCondLst>
                      <p:childTnLst>
                        <p:par>
                          <p:cTn id="4144" fill="hold">
                            <p:stCondLst>
                              <p:cond delay="0"/>
                            </p:stCondLst>
                            <p:childTnLst>
                              <p:par>
                                <p:cTn id="4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1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5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6" fill="hold">
                      <p:stCondLst>
                        <p:cond delay="indefinite"/>
                      </p:stCondLst>
                      <p:childTnLst>
                        <p:par>
                          <p:cTn id="4177" fill="hold">
                            <p:stCondLst>
                              <p:cond delay="0"/>
                            </p:stCondLst>
                            <p:childTnLst>
                              <p:par>
                                <p:cTn id="4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457200" y="1828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إِذَا الرُّسُلُ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ُقِّت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238880" y="3357720"/>
            <a:ext cx="10670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أُقِّتَتْ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768560" y="3352680"/>
            <a:ext cx="2436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رجع بها الوق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819520" y="3352680"/>
            <a:ext cx="20286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ين لها الو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3357720"/>
            <a:ext cx="2025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سار بها الوق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037880" y="4687920"/>
            <a:ext cx="70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أي عين لها الوقت الذي تحضر فيه للشهادة على الأمم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4" dur="indefinite" restart="never" nodeType="tmRoot">
          <p:childTnLst>
            <p:seq>
              <p:cTn id="4185" dur="indefinite" nodeType="mainSeq">
                <p:childTnLst>
                  <p:par>
                    <p:cTn id="4186" fill="hold">
                      <p:stCondLst>
                        <p:cond delay="0"/>
                      </p:stCondLst>
                      <p:childTnLst>
                        <p:par>
                          <p:cTn id="4187" fill="hold">
                            <p:stCondLst>
                              <p:cond delay="0"/>
                            </p:stCondLst>
                            <p:childTnLst>
                              <p:par>
                                <p:cTn id="41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92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4" dur="3396" fill="hold"/>
                                        <p:tgtEl>
                                          <p:spTgt spid="8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5" fill="hold">
                      <p:stCondLst>
                        <p:cond delay="indefinite"/>
                      </p:stCondLst>
                      <p:childTnLst>
                        <p:par>
                          <p:cTn id="4196" fill="hold">
                            <p:stCondLst>
                              <p:cond delay="0"/>
                            </p:stCondLst>
                            <p:childTnLst>
                              <p:par>
                                <p:cTn id="41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9" dur="8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0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1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2" dur="8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8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9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4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5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6" dur="500" fill="hold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7" dur="500"/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1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2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9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0" fill="hold">
                      <p:stCondLst>
                        <p:cond delay="indefinite"/>
                      </p:stCondLst>
                      <p:childTnLst>
                        <p:par>
                          <p:cTn id="4231" fill="hold">
                            <p:stCondLst>
                              <p:cond delay="0"/>
                            </p:stCondLst>
                            <p:childTnLst>
                              <p:par>
                                <p:cTn id="42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0" fill="hold">
                            <p:stCondLst>
                              <p:cond delay="0"/>
                            </p:stCondLst>
                            <p:childTnLst>
                              <p:par>
                                <p:cTn id="4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380880" y="1295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نَخْلُقْكُمْ مِنْ مَاء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فَجَعَلْنَاهُ فِي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رَارٍ مَكِين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0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و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2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41911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ك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419580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جهولٍ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029200" y="4191120"/>
            <a:ext cx="14479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ضيقٍ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4191120"/>
            <a:ext cx="1656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اكن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40200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قَرَار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34336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قر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3124080" y="3429000"/>
            <a:ext cx="1492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خوف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066680" y="3429000"/>
            <a:ext cx="1627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جهل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914400" y="50292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010199"/>
              </a:buClr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قرار مكين المراد به المكان المتمكن من حماية النطفة وحفظها من الضياع والفساد والمقصود به رحم الا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5720" y="263988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هِين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029200" y="2655720"/>
            <a:ext cx="15238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ختلط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124080" y="2639880"/>
            <a:ext cx="1524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حق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66680" y="263988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بار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3"/>
          <a:stretch/>
        </p:blipFill>
        <p:spPr>
          <a:xfrm>
            <a:off x="838080" y="1752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4" dur="indefinite" restart="never" nodeType="tmRoot">
          <p:childTnLst>
            <p:seq>
              <p:cTn id="4245" dur="indefinite" nodeType="mainSeq">
                <p:childTnLst>
                  <p:par>
                    <p:cTn id="4246" fill="hold">
                      <p:stCondLst>
                        <p:cond delay="0"/>
                      </p:stCondLst>
                      <p:childTnLst>
                        <p:par>
                          <p:cTn id="4247" fill="hold">
                            <p:stCondLst>
                              <p:cond delay="0"/>
                            </p:stCondLst>
                            <p:childTnLst>
                              <p:par>
                                <p:cTn id="42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2" dur="14054" fill="hold"/>
                                        <p:tgtEl>
                                          <p:spTgt spid="8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3" fill="hold">
                      <p:stCondLst>
                        <p:cond delay="indefinite"/>
                      </p:stCondLst>
                      <p:childTnLst>
                        <p:par>
                          <p:cTn id="4254" fill="hold">
                            <p:stCondLst>
                              <p:cond delay="0"/>
                            </p:stCondLst>
                            <p:childTnLst>
                              <p:par>
                                <p:cTn id="42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5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4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5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6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7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6" fill="hold">
                      <p:stCondLst>
                        <p:cond delay="indefinite"/>
                      </p:stCondLst>
                      <p:childTnLst>
                        <p:par>
                          <p:cTn id="4277" fill="hold">
                            <p:stCondLst>
                              <p:cond delay="0"/>
                            </p:stCondLst>
                            <p:childTnLst>
                              <p:par>
                                <p:cTn id="42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2" fill="hold">
                            <p:stCondLst>
                              <p:cond delay="0"/>
                            </p:stCondLst>
                            <p:childTnLst>
                              <p:par>
                                <p:cTn id="4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6" fill="hold">
                            <p:stCondLst>
                              <p:cond delay="500"/>
                            </p:stCondLst>
                            <p:childTnLst>
                              <p:par>
                                <p:cTn id="42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9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3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7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8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9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1" fill="hold">
                      <p:stCondLst>
                        <p:cond delay="indefinite"/>
                      </p:stCondLst>
                      <p:childTnLst>
                        <p:par>
                          <p:cTn id="4302" fill="hold">
                            <p:stCondLst>
                              <p:cond delay="0"/>
                            </p:stCondLst>
                            <p:childTnLst>
                              <p:par>
                                <p:cTn id="430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4" dur="1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5" dur="10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06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9" dur="10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0" dur="10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1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5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9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0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3" fill="hold">
                      <p:stCondLst>
                        <p:cond delay="indefinite"/>
                      </p:stCondLst>
                      <p:childTnLst>
                        <p:par>
                          <p:cTn id="4334" fill="hold">
                            <p:stCondLst>
                              <p:cond delay="0"/>
                            </p:stCondLst>
                            <p:childTnLst>
                              <p:par>
                                <p:cTn id="4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9" fill="hold">
                            <p:stCondLst>
                              <p:cond delay="0"/>
                            </p:stCondLst>
                            <p:childTnLst>
                              <p:par>
                                <p:cTn id="4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533520" y="1828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أَلَمْ نَجْعَلِ الْأَرْض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ِف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5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086600" y="3325680"/>
            <a:ext cx="1143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ِف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181480" y="33256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أو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24080" y="332568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متوازنة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914400" y="3325680"/>
            <a:ext cx="1828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مسكن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720" y="4459320"/>
            <a:ext cx="90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المعنى إن الله سبحانه وتعالى جعل الأرض أوعية تجمع الأحياء والأمو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3" dur="indefinite" restart="never" nodeType="tmRoot">
          <p:childTnLst>
            <p:seq>
              <p:cTn id="4344" dur="indefinite" nodeType="mainSeq">
                <p:childTnLst>
                  <p:par>
                    <p:cTn id="4345" fill="hold">
                      <p:stCondLst>
                        <p:cond delay="0"/>
                      </p:stCondLst>
                      <p:childTnLst>
                        <p:par>
                          <p:cTn id="4346" fill="hold">
                            <p:stCondLst>
                              <p:cond delay="0"/>
                            </p:stCondLst>
                            <p:childTnLst>
                              <p:par>
                                <p:cTn id="43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51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3" dur="4859" fill="hold"/>
                                        <p:tgtEl>
                                          <p:spTgt spid="9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4" fill="hold">
                      <p:stCondLst>
                        <p:cond delay="indefinite"/>
                      </p:stCondLst>
                      <p:childTnLst>
                        <p:par>
                          <p:cTn id="4355" fill="hold">
                            <p:stCondLst>
                              <p:cond delay="0"/>
                            </p:stCondLst>
                            <p:childTnLst>
                              <p:par>
                                <p:cTn id="4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8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9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0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4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5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6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3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5" fill="hold">
                      <p:stCondLst>
                        <p:cond delay="indefinite"/>
                      </p:stCondLst>
                      <p:childTnLst>
                        <p:par>
                          <p:cTn id="4376" fill="hold">
                            <p:stCondLst>
                              <p:cond delay="0"/>
                            </p:stCondLst>
                            <p:childTnLst>
                              <p:par>
                                <p:cTn id="4377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78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9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0" dur="80"/>
                                        <p:tgtEl>
                                          <p:spTgt spid="8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2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383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4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5" dur="8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8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7" fill="hold">
                            <p:stCondLst>
                              <p:cond delay="320"/>
                            </p:stCondLst>
                            <p:childTnLst>
                              <p:par>
                                <p:cTn id="4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0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533520" y="16002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وَجَعَلْنَا فِيهَا رَوَاسِي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امِخَاتٍ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وَأَسْقَيْنَاكُمْ مَاءً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َاتاً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27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744960" y="3433680"/>
            <a:ext cx="1645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شَامِخَات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58000" y="446868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فُرَاتاً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895480" y="3429000"/>
            <a:ext cx="1617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ال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800600" y="34336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بيرات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838080" y="3429000"/>
            <a:ext cx="1752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تساوي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800600" y="446868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ذ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895480" y="446868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بارد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838080" y="446868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طيبا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1" dur="indefinite" restart="never" nodeType="tmRoot">
          <p:childTnLst>
            <p:seq>
              <p:cTn id="4392" dur="indefinite" nodeType="mainSeq">
                <p:childTnLst>
                  <p:par>
                    <p:cTn id="4393" fill="hold">
                      <p:stCondLst>
                        <p:cond delay="0"/>
                      </p:stCondLst>
                      <p:childTnLst>
                        <p:par>
                          <p:cTn id="4394" fill="hold">
                            <p:stCondLst>
                              <p:cond delay="0"/>
                            </p:stCondLst>
                            <p:childTnLst>
                              <p:par>
                                <p:cTn id="4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9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1" dur="14368" fill="hold"/>
                                        <p:tgtEl>
                                          <p:spTgt spid="9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2" fill="hold">
                      <p:stCondLst>
                        <p:cond delay="indefinite"/>
                      </p:stCondLst>
                      <p:childTnLst>
                        <p:par>
                          <p:cTn id="4403" fill="hold">
                            <p:stCondLst>
                              <p:cond delay="0"/>
                            </p:stCondLst>
                            <p:childTnLst>
                              <p:par>
                                <p:cTn id="4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6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4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0" dur="8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1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2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3" dur="8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2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7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8" fill="hold">
                      <p:stCondLst>
                        <p:cond delay="indefinite"/>
                      </p:stCondLst>
                      <p:childTnLst>
                        <p:par>
                          <p:cTn id="4429" fill="hold">
                            <p:stCondLst>
                              <p:cond delay="0"/>
                            </p:stCondLst>
                            <p:childTnLst>
                              <p:par>
                                <p:cTn id="443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1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2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33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42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6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7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8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5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0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5" dur="1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0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4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7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8" dur="5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9" fill="hold">
                      <p:stCondLst>
                        <p:cond delay="indefinite"/>
                      </p:stCondLst>
                      <p:childTnLst>
                        <p:par>
                          <p:cTn id="4480" fill="hold">
                            <p:stCondLst>
                              <p:cond delay="0"/>
                            </p:stCondLst>
                            <p:childTnLst>
                              <p:par>
                                <p:cTn id="4481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82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3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4" dur="8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8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87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8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9" dur="8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92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3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4" dur="80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49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97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8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9" dur="8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19" name=""/>
          <p:cNvSpPr/>
          <p:nvPr/>
        </p:nvSpPr>
        <p:spPr>
          <a:xfrm>
            <a:off x="609480" y="19810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إِنَّهَا تَرْمِي بِشَرَرٍ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قَصْرِ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2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629400" y="3554280"/>
            <a:ext cx="140508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كَالْقَصْرِ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362320" y="4348080"/>
            <a:ext cx="3608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جمر المتطا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362320" y="3554280"/>
            <a:ext cx="36194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حصى الكبير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362320" y="5181480"/>
            <a:ext cx="35812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لبناء الضخ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1" dur="indefinite" restart="never" nodeType="tmRoot">
          <p:childTnLst>
            <p:seq>
              <p:cTn id="4502" dur="indefinite" nodeType="mainSeq">
                <p:childTnLst>
                  <p:par>
                    <p:cTn id="4503" fill="hold">
                      <p:stCondLst>
                        <p:cond delay="0"/>
                      </p:stCondLst>
                      <p:childTnLst>
                        <p:par>
                          <p:cTn id="4504" fill="hold">
                            <p:stCondLst>
                              <p:cond delay="0"/>
                            </p:stCondLst>
                            <p:childTnLst>
                              <p:par>
                                <p:cTn id="45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7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09" dur="6792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0" fill="hold">
                      <p:stCondLst>
                        <p:cond delay="indefinite"/>
                      </p:stCondLst>
                      <p:childTnLst>
                        <p:par>
                          <p:cTn id="4511" fill="hold">
                            <p:stCondLst>
                              <p:cond delay="0"/>
                            </p:stCondLst>
                            <p:childTnLst>
                              <p:par>
                                <p:cTn id="4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4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6" fill="hold">
                            <p:stCondLst>
                              <p:cond delay="500"/>
                            </p:stCondLst>
                            <p:childTnLst>
                              <p:par>
                                <p:cTn id="45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0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1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2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6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7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8" dur="80"/>
                                        <p:tgtEl>
                                          <p:spTgt spid="9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9" fill="hold">
                            <p:stCondLst>
                              <p:cond delay="1600"/>
                            </p:stCondLst>
                            <p:childTnLst>
                              <p:par>
                                <p:cTn id="45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34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5" fill="hold">
                      <p:stCondLst>
                        <p:cond delay="indefinite"/>
                      </p:stCondLst>
                      <p:childTnLst>
                        <p:par>
                          <p:cTn id="4536" fill="hold">
                            <p:stCondLst>
                              <p:cond delay="0"/>
                            </p:stCondLst>
                            <p:childTnLst>
                              <p:par>
                                <p:cTn id="45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380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مَّازٍ مَشَّاءٍ بِنَمِيمٍ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1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514600"/>
            <a:ext cx="11732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هَمَّازٍ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4724280"/>
            <a:ext cx="10652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بِنَم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86600" y="3962520"/>
            <a:ext cx="10987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مَشَّاءٍ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06720" y="2514600"/>
            <a:ext cx="164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عيَّا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3684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نقل الحدي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52880" y="3962520"/>
            <a:ext cx="1581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ع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2514600"/>
            <a:ext cx="15750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شكك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514600"/>
            <a:ext cx="1519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مستهز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39672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سا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962520"/>
            <a:ext cx="1567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يتنق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724280"/>
            <a:ext cx="167652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قول الزو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724280"/>
            <a:ext cx="16290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نقل الكذ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01960" y="3276720"/>
            <a:ext cx="65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cs typeface="Arial"/>
              </a:rPr>
              <a:t>هماز معناه من يشير إلى عيوب الناس ويطعن فيه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760" y="5486400"/>
            <a:ext cx="90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10199"/>
                </a:solidFill>
                <a:latin typeface="Wingdings 2"/>
                <a:ea typeface="Wingdings 2"/>
              </a:rPr>
              <a:t></a:t>
            </a:r>
            <a:r>
              <a:rPr b="0" lang="ar-LB" sz="2400" spc="-1" strike="noStrike">
                <a:solidFill>
                  <a:srgbClr val="010199"/>
                </a:solidFill>
                <a:latin typeface="Arial"/>
                <a:ea typeface="Arial"/>
              </a:rPr>
              <a:t> مشاء بنميم أي الشخص الذي يمشي بين الناس بإيجاد الإفساد والفرق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419720" y="2057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783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3808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cs typeface="Arial"/>
              </a:rPr>
              <a:t>كَأَنَّهُ 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جمَالةٌ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ea typeface="Arial"/>
              </a:rPr>
              <a:t> صُفْرٌ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مرسلات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3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934320" y="31734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d002a4"/>
                </a:solidFill>
                <a:latin typeface="Arial"/>
                <a:cs typeface="Arial"/>
              </a:rPr>
              <a:t>جمَالةٌ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934320" y="4195800"/>
            <a:ext cx="13716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صُفْرٌ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048120" y="3173400"/>
            <a:ext cx="16761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جما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105520" y="3173400"/>
            <a:ext cx="16002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دواب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066680" y="31734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خي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105520" y="4195800"/>
            <a:ext cx="1600200" cy="9471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ونه اصف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048120" y="4191120"/>
            <a:ext cx="16509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  خائف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066680" y="4195800"/>
            <a:ext cx="1676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نائ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41" dur="indefinite" restart="never" nodeType="tmRoot">
          <p:childTnLst>
            <p:seq>
              <p:cTn id="4542" dur="indefinite" nodeType="mainSeq">
                <p:childTnLst>
                  <p:par>
                    <p:cTn id="4543" fill="hold">
                      <p:stCondLst>
                        <p:cond delay="0"/>
                      </p:stCondLst>
                      <p:childTnLst>
                        <p:par>
                          <p:cTn id="4544" fill="hold">
                            <p:stCondLst>
                              <p:cond delay="0"/>
                            </p:stCondLst>
                            <p:childTnLst>
                              <p:par>
                                <p:cTn id="45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0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6" dur="5225" fill="hold"/>
                                        <p:tgtEl>
                                          <p:spTgt spid="9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7" fill="hold">
                      <p:stCondLst>
                        <p:cond delay="indefinite"/>
                      </p:stCondLst>
                      <p:childTnLst>
                        <p:par>
                          <p:cTn id="4558" fill="hold">
                            <p:stCondLst>
                              <p:cond delay="0"/>
                            </p:stCondLst>
                            <p:childTnLst>
                              <p:par>
                                <p:cTn id="45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1" dur="8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2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3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4" dur="8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0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2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7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1" fill="hold">
                      <p:stCondLst>
                        <p:cond delay="indefinite"/>
                      </p:stCondLst>
                      <p:childTnLst>
                        <p:par>
                          <p:cTn id="4582" fill="hold">
                            <p:stCondLst>
                              <p:cond delay="0"/>
                            </p:stCondLst>
                            <p:childTnLst>
                              <p:par>
                                <p:cTn id="458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4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8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9" fill="hold">
                            <p:stCondLst>
                              <p:cond delay="500"/>
                            </p:stCondLst>
                            <p:childTnLst>
                              <p:par>
                                <p:cTn id="45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2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3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9" dur="8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0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1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2" dur="8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6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1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2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4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5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6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7" fill="hold">
                      <p:stCondLst>
                        <p:cond delay="indefinite"/>
                      </p:stCondLst>
                      <p:childTnLst>
                        <p:par>
                          <p:cTn id="4618" fill="hold">
                            <p:stCondLst>
                              <p:cond delay="0"/>
                            </p:stCondLst>
                            <p:childTnLst>
                              <p:par>
                                <p:cTn id="4619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20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1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2" dur="8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4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4625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6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7" dur="8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628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3520" y="1600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﴿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تُلٍّ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بَعْدَ ذَلِكَ </a:t>
            </a: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زَن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</a:t>
            </a: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Traditional Arabic"/>
              </a:rPr>
              <a:t>﴾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 (القلم: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13</a:t>
            </a:r>
            <a:r>
              <a:rPr b="0" lang="ar-SA" sz="2800" spc="-1" strike="noStrike">
                <a:solidFill>
                  <a:srgbClr val="010199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0" y="3276720"/>
            <a:ext cx="13780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عُتُلّ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4267080"/>
            <a:ext cx="13921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002a4"/>
                </a:solidFill>
                <a:latin typeface="Arial"/>
                <a:cs typeface="Arial"/>
              </a:rPr>
              <a:t>زَنِيمٍ</a:t>
            </a:r>
            <a:r>
              <a:rPr b="0" lang="ar-LB" sz="2800" spc="-1" strike="noStrike">
                <a:solidFill>
                  <a:srgbClr val="d002a4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3276720"/>
            <a:ext cx="183384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فظ غلي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3276720"/>
            <a:ext cx="175248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ea typeface="Arial"/>
              </a:rPr>
              <a:t> ظال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2560" y="3276720"/>
            <a:ext cx="2161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بعيد عن الخي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4267080"/>
            <a:ext cx="180180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لا أصل ل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4267080"/>
            <a:ext cx="181476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كافر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4267080"/>
            <a:ext cx="1730520" cy="52056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800" spc="-1" strike="noStrike">
                <a:solidFill>
                  <a:srgbClr val="010199"/>
                </a:solidFill>
                <a:latin typeface="Arial"/>
                <a:cs typeface="Arial"/>
              </a:rPr>
              <a:t>ظال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66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419720" y="2819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512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780"/>
                            </p:stCondLst>
                            <p:childTnLst>
                              <p:par>
                                <p:cTn id="4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280"/>
                            </p:stCondLst>
                            <p:childTnLst>
                              <p:par>
                                <p:cTn id="4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780"/>
                            </p:stCondLst>
                            <p:childTnLst>
                              <p:par>
                                <p:cTn id="5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4,-72,-16)"/>
                                          </p:val>
                                        </p:tav>
                                        <p:tav tm="50000">
                                          <p:val>
                                            <p:strVal val="rgb(125,-81,1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8:09Z</dcterms:created>
  <dc:creator/>
  <dc:description/>
  <dc:language>en-US</dc:language>
  <cp:lastModifiedBy>ALI</cp:lastModifiedBy>
  <dcterms:modified xsi:type="dcterms:W3CDTF">2008-09-21T07:17:00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