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E2B-B11E-426C-8594-0F4F8A09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9D7C-AC4C-433E-B926-1C16CA13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D43-268F-47A0-8B63-C85ED20A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E50-236A-4B51-9094-E154C3DA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341E-3052-4B23-930C-E9044AF7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F841-EBC1-4E66-AF8F-8F5F4C3B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3EED-73DE-401C-ADD6-3F86928B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668E-18D7-4508-9EC1-6D810D78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95E3-F743-4197-A702-2F146E57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3665-A80B-4DC6-85DE-35DA6EB0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FA26-DC90-494D-8C8F-9F591AF6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98C-E12A-4857-98CC-F7C4C095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386F-46D9-4F18-ABAB-94D53A99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3211-0D32-47E9-8190-D430D0AF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C0EF-18A1-4863-90C6-3F221E2E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3985-4C00-4C6F-A6E0-4D98F614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65F4-FEA7-4ED9-8666-AF82A6F4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40D-FD6F-4E47-BB17-78C3FE56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0B67-D83D-4111-9DA8-0161D51B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D988-D0CE-4361-8C95-CBBC8A6E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220-2B4C-45E2-9056-8318CC26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75A-B22C-4612-B413-DEB2994C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1CB-68B3-459F-9F6F-B14F0552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5F6-68F5-4D91-947E-FD5D8FC6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A540-5EB0-4470-848B-7B82486614EB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0F6B-2EAB-4404-B9A7-713E192571F3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يَصِلُونَ مَا أَمَرَ اللَّهُ بِهِ أَنْ يُوصَل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-45720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2120" y="152388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ؤْتَفِكَة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غَشَّاهَا مَا غَشَّى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3429000"/>
            <a:ext cx="123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هْو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3429000"/>
            <a:ext cx="168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429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ق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724280"/>
            <a:ext cx="71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مؤتفكة هم القرى المنقلبة عن الإيمان ،اللهُ سبحانه أسقط قراهم وخسفها إلى الأرض بقلبها وشملها وأحاط بها من العذاب ما شملها وأحاط ب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653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838080" y="19810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ك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05720" y="3352680"/>
            <a:ext cx="148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آلاء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4343400"/>
            <a:ext cx="149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تَمَا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33526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ِع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4280" y="3352680"/>
            <a:ext cx="1725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35268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د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3434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ك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95480" y="434340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66680" y="434340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343400" y="2819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9" dur="559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40"/>
                            </p:stCondLst>
                            <p:childTnLst>
                              <p:par>
                                <p:cTn id="5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20"/>
                            </p:stCondLst>
                            <p:childTnLst>
                              <p:par>
                                <p:cTn id="5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220"/>
                            </p:stCondLst>
                            <p:childTnLst>
                              <p:par>
                                <p:cTn id="5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72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094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92400" y="3505320"/>
            <a:ext cx="159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َامِد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5053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35053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كب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3505320"/>
            <a:ext cx="1698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جد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956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339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500"/>
                            </p:stCondLst>
                            <p:childTnLst>
                              <p:par>
                                <p:cTn id="5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62120" y="18288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كَذَّبُوا وَاتَّبَعُوا أَهْوَاءَهُمْ وَكُلُّ أَم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ٌ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81280"/>
            <a:ext cx="122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سْتَقِرّ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3581280"/>
            <a:ext cx="146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اب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581280"/>
            <a:ext cx="1486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58128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62120" y="4495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كذَّبوا الحقَّ ومعجزاته واتبَّعوا رغباتهم ، والمراد أن كل الأمور والأعمال ثابتة وكل عمل وأمر سيذهب إلى مستقره ويُعلم إذا كان حقٌ أو باطل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2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4" dur="10449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4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09480" y="21337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قَدْ جَاءَهُمْ مِنَ الْأَنْبَاءِ مَا فِيه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3657600"/>
            <a:ext cx="1262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زْدَج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ع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65760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كم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365760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م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8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8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1" dur="9405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حَمَلْنَاهُ عَلَى ذَاتِ أَلْوَاحٍ 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581280"/>
            <a:ext cx="1479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َدُسُ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35812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3581280"/>
            <a:ext cx="153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ط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5382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68580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نْزِعُ النَّاسَ كَأَنَّهُمْ أَعْجَازُ نَخْل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358128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قَع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358128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ل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581280"/>
            <a:ext cx="158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س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358128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ذ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1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3" dur="7889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5800" y="20574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ُلْقِيَ الذِّكْرُ عَلَيْهِ مِنْ بَيْنِنَا بَلْ هُوَ كَذَّابٌ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أَشِ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3505320"/>
            <a:ext cx="1359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شِ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80060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كَّبر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تا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3505320"/>
            <a:ext cx="162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8" dur="721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00"/>
                            </p:stCondLst>
                            <p:childTnLst>
                              <p:par>
                                <p:cTn id="8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14400" y="121932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نَبِّئْهُمْ أَنَّ الْمَاءَ قِسْمَةٌ بَيْنَهُمْ كُلُّ شِرْب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00800" y="2743200"/>
            <a:ext cx="166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حْتَضَر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267080"/>
            <a:ext cx="3976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ضره أهله لا يحضر سوا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05120" y="2743200"/>
            <a:ext cx="394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تي شربهم لعند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05120" y="3505320"/>
            <a:ext cx="3965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ع بالتساوي لكل النا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35268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2120" y="5029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ن الماء قسمةٌ بينهم وبين الناقة وكل قوم لهم حصتهم ونصيبهم من الماء ولا يحق لأحد آخر الحضور والشرب منها وكلٌ يذهب حيث نصيبه من الشر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5" dur="11390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8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85800" y="17524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أَرْسَلْنَا عَلَيْهِمْ صَيْحَةً وَاحِدَةً فَكَانُوا كَهَشِيم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6844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حْتَظِر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3505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حظ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350532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احب الغ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71800" y="350532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لف الياب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458784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أنهم أصبحوا بعد الصيحة كالشجرالمتكسر والنبات اليابس ونحوه مما يجمعه صاحب الحظيرة لماشيت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8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1390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600"/>
                            </p:stCondLst>
                            <p:childTnLst>
                              <p:par>
                                <p:cTn id="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600"/>
                            </p:stCondLst>
                            <p:childTnLst>
                              <p:par>
                                <p:cTn id="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100"/>
                            </p:stCondLst>
                            <p:childTnLst>
                              <p:par>
                                <p:cTn id="9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600"/>
                            </p:stCondLst>
                            <p:childTnLst>
                              <p:par>
                                <p:cTn id="9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تَسْأَلُهُمْ أَجْراً فَهُمْ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ثْقَ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طو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3505320"/>
            <a:ext cx="126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غْرَ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5053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576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0948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مَقْعَدِ صِدْقٍ عِنْدَ مَلِيك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م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934320" y="3657600"/>
            <a:ext cx="138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قْتَدِر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657600"/>
            <a:ext cx="1603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800600" y="3657600"/>
            <a:ext cx="176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يم العف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3040" y="3657600"/>
            <a:ext cx="218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سع المغ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7" dur="6165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480"/>
                            </p:stCondLst>
                            <p:childTnLst>
                              <p:par>
                                <p:cTn id="9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8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8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480"/>
                            </p:stCondLst>
                            <p:childTnLst>
                              <p:par>
                                <p:cTn id="9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980"/>
                            </p:stCondLst>
                            <p:childTnLst>
                              <p:par>
                                <p:cTn id="9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8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1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6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57200" y="2057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شَّمْسُ وَالْقَمَر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95480" y="37339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س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34320" y="3733920"/>
            <a:ext cx="136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حُسْب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ميز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37339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0" dur="4075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500"/>
                            </p:stCondLst>
                            <p:childTnLst>
                              <p:par>
                                <p:cTn id="10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فَاكِهَةٌ وَالنَّخْلُ ذَات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02280" y="3505320"/>
            <a:ext cx="1403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أَكْمَا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769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الثم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3505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 البل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3680" y="3505320"/>
            <a:ext cx="230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وراق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0" dur="6270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1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2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940"/>
                            </p:stCondLst>
                            <p:childTnLst>
                              <p:par>
                                <p:cTn id="1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8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8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940"/>
                            </p:stCondLst>
                            <p:childTnLst>
                              <p:par>
                                <p:cTn id="10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2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1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066680" y="16765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حَبُّ ذُو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الْعَص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رَّيْحَان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34320" y="3276720"/>
            <a:ext cx="1334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عَص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2767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ش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52880" y="3276720"/>
            <a:ext cx="173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وا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907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4572000"/>
            <a:ext cx="42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ما هو كغلاف للحب وهو قشر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0" dur="3919" fill="hold"/>
                                        <p:tgtEl>
                                          <p:spTgt spid="3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15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320"/>
                            </p:stCondLst>
                            <p:childTnLst>
                              <p:par>
                                <p:cTn id="1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33520" y="2057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خَلَقَ الْجَانَّ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نَار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0" y="380988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ارِج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52880" y="3809880"/>
            <a:ext cx="164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 خال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3809880"/>
            <a:ext cx="175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3809880"/>
            <a:ext cx="165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لص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8" dur="8830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5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1320"/>
                            </p:stCondLst>
                            <p:childTnLst>
                              <p:par>
                                <p:cTn id="118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8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320"/>
                            </p:stCondLst>
                            <p:childTnLst>
                              <p:par>
                                <p:cTn id="120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19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0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6094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ْبَحْرَيْنِ يَلْتَق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3657600"/>
            <a:ext cx="143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رَج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68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ي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3657600"/>
            <a:ext cx="163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ط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65760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متد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0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3" dur="4075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57200" y="1447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يْنَه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934320" y="3048120"/>
            <a:ext cx="132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َرْزَخ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934320" y="39625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بْغِي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304812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ج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048120"/>
            <a:ext cx="1704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048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3962520"/>
            <a:ext cx="169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عديا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71800" y="3962520"/>
            <a:ext cx="1631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ظل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3962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5800" y="4648320"/>
            <a:ext cx="755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 بينهما حاجز يمنع كل منهما من التعدي على الأخر لا البحر المالح يتعدى على البحر العذب فيغشيه ويبدله مالحاً وتبطل بذلك الحياة  ، ويحجز البحرالعذب أن يزيد في الإنصباب على البحر المالح فيبدله ماءً عذب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تبطل بذلك مصلحة ملوحته من تطهير الهواء وغي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46483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5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7" dur="4494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5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8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3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7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2320"/>
                            </p:stCondLst>
                            <p:childTnLst>
                              <p:par>
                                <p:cTn id="1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2820"/>
                            </p:stCondLst>
                            <p:childTnLst>
                              <p:par>
                                <p:cTn id="13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3320"/>
                            </p:stCondLst>
                            <p:childTnLst>
                              <p:par>
                                <p:cTn id="13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09480" y="19810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هُ الْجَوَارِ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بَحْرِ كَالْأَعْل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25600" y="358128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نْشَآت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3581280"/>
            <a:ext cx="177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ن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35812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8120" y="3581280"/>
            <a:ext cx="1752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رف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8" dur="6636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9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1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4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9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09480" y="2209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رْسَلُ عَلَيْكُم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نَارٍ وَنُحَاسٌ فَلا تَنْتَصِر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10280" y="4038480"/>
            <a:ext cx="1241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شُوَاظ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52880" y="40384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هب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40384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403848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م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0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2" dur="10502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46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500"/>
                            </p:stCondLst>
                            <p:childTnLst>
                              <p:par>
                                <p:cTn id="1469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0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2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6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نْشَقَّتِ السَّمَاءُ فَكَانَتْ وَرْد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97880" y="3505320"/>
            <a:ext cx="150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كَالدِّه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50532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د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35053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43000" y="3505320"/>
            <a:ext cx="1598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دخ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25600" y="4572000"/>
            <a:ext cx="64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دهان المراد به الأديم الأحمر وهو الجلد المصبو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0" dur="8830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18288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 هُوَ إِلَّا وَحْيٌ يُوحَى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َّمَهُ شَدِيدُ الْقُ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ُو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سْت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3505320"/>
            <a:ext cx="126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ِرَّة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3505320"/>
            <a:ext cx="180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ةٍ وحصافة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84160" y="3505320"/>
            <a:ext cx="206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فٍ و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505320"/>
            <a:ext cx="1755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زنٍ وألم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495680"/>
            <a:ext cx="740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بذو مرة جبريل (ع) والمعنى أنه ذوشدَّة في جنب الله وهو ذو حصافة في رأيه وعقل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133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80880" y="1752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ُعْرَفُ الْمُجْرِمُونَ بِسِيمَاهُمْ فَيُؤْخَذ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ْأَقْد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70440" y="3581280"/>
            <a:ext cx="1680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بِالنَّوَاصِي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800600" y="3581280"/>
            <a:ext cx="187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وج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15160" y="3581280"/>
            <a:ext cx="275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عر مقدم الرأ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8080" y="3581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9718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0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2" dur="8464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240"/>
                            </p:stCondLst>
                            <p:childTnLst>
                              <p:par>
                                <p:cTn id="15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740"/>
                            </p:stCondLst>
                            <p:childTnLst>
                              <p:par>
                                <p:cTn id="15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0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3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62120" y="15066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ِمَنْ خَافَ مَقَامَ رَبِّهِ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ذَوَات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34290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ْنَان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90720" y="3429000"/>
            <a:ext cx="1612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و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29200" y="3429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3429000"/>
            <a:ext cx="172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غ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7" dur="indefinite" restart="never" nodeType="tmRoot">
          <p:childTnLst>
            <p:seq>
              <p:cTn id="1568" dur="indefinite" nodeType="mainSeq">
                <p:childTnLst>
                  <p:par>
                    <p:cTn id="1569" fill="hold">
                      <p:stCondLst>
                        <p:cond delay="0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8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8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1" dur="8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2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8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8" dur="1640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1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2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3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700"/>
                            </p:stCondLst>
                            <p:childTnLst>
                              <p:par>
                                <p:cTn id="16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1200"/>
                            </p:stCondLst>
                            <p:childTnLst>
                              <p:par>
                                <p:cTn id="16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2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0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1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2" dur="8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35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6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8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33520" y="1371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ن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ْسٌ قَبْلَهُمْ وَلا جَانّ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81600" y="2743200"/>
            <a:ext cx="275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اصِرَاتُ الطَّرْف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19920" y="5181480"/>
            <a:ext cx="23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طْمِثْهُنّ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65360" y="5181480"/>
            <a:ext cx="1508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ضض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848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5181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لمس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505320"/>
            <a:ext cx="428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لا يردن غير أزواجهن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3164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 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2743200"/>
            <a:ext cx="430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ور من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9" dur="indefinite" restart="never" nodeType="tmRoot">
          <p:childTnLst>
            <p:seq>
              <p:cTn id="1640" dur="indefinite" nodeType="mainSeq">
                <p:childTnLst>
                  <p:par>
                    <p:cTn id="1641" fill="hold">
                      <p:stCondLst>
                        <p:cond delay="0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9" dur="13009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500"/>
                            </p:stCondLst>
                            <p:childTnLst>
                              <p:par>
                                <p:cTn id="165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0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6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85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6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7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0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2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440"/>
                            </p:stCondLst>
                            <p:childTnLst>
                              <p:par>
                                <p:cTn id="17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1440"/>
                            </p:stCondLst>
                            <p:childTnLst>
                              <p:par>
                                <p:cTn id="17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940"/>
                            </p:stCondLst>
                            <p:childTnLst>
                              <p:par>
                                <p:cTn id="17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8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2440"/>
                            </p:stCondLst>
                            <p:childTnLst>
                              <p:par>
                                <p:cTn id="17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940"/>
                            </p:stCondLst>
                            <p:childTnLst>
                              <p:par>
                                <p:cTn id="17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838080" y="127800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 دُونِهِمَا جَن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بِأَيِّ آَلَاءِ رَبِّكُمَا تُكَذِّب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00800" y="2971800"/>
            <a:ext cx="161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َامّ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886200"/>
            <a:ext cx="42656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تا الخضرة المائلة للسوا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3021120"/>
            <a:ext cx="42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عهما على مد ال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800600"/>
            <a:ext cx="429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ما أخضر من الر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209680" y="1981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0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6" dur="15465" fill="hold"/>
                                        <p:tgtEl>
                                          <p:spTgt spid="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500"/>
                            </p:stCondLst>
                            <p:childTnLst>
                              <p:par>
                                <p:cTn id="17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4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9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1" dur="1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6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ِمَا عَيْنَانِ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نَضَّاخَتَان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3505320"/>
            <a:ext cx="145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نَضَّاخَتَا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95480" y="35053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وارت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00600" y="3505320"/>
            <a:ext cx="155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تج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13716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8" dur="indefinite" restart="never" nodeType="tmRoot">
          <p:childTnLst>
            <p:seq>
              <p:cTn id="1789" dur="indefinite" nodeType="mainSeq">
                <p:childTnLst>
                  <p:par>
                    <p:cTn id="1790" fill="hold">
                      <p:stCondLst>
                        <p:cond delay="0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9" dur="4285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5" fill="hold">
                            <p:stCondLst>
                              <p:cond delay="500"/>
                            </p:stCondLst>
                            <p:childTnLst>
                              <p:par>
                                <p:cTn id="1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3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2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ُور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ْخِيَا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96920" y="3429000"/>
            <a:ext cx="184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قْصُورَاتٌ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48320" y="3429000"/>
            <a:ext cx="189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و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342900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رم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" y="3429000"/>
            <a:ext cx="189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ي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43" dur="indefinite" restart="never" nodeType="tmRoot">
          <p:childTnLst>
            <p:seq>
              <p:cTn id="1844" dur="indefinite" nodeType="mainSeq">
                <p:childTnLst>
                  <p:par>
                    <p:cTn id="1845" fill="hold">
                      <p:stCondLst>
                        <p:cond delay="0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1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3" dur="5382" fill="hold"/>
                                        <p:tgtEl>
                                          <p:spTgt spid="4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500"/>
                            </p:stCondLst>
                            <p:childTnLst>
                              <p:par>
                                <p:cTn id="1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4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10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3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5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60948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ُتَّكِئِي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خُض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حِسَا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رحم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28480" y="4267080"/>
            <a:ext cx="1524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عَبْقَرِيّ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4267080"/>
            <a:ext cx="178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در الوج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890600" y="4267080"/>
            <a:ext cx="1861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ب مو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4267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ٍ  ملو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3429000"/>
            <a:ext cx="1265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رَفْرَف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ُس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34290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971800" y="3429000"/>
            <a:ext cx="18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ب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5181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 كل ما ندر وجوده ولا يمكن وصفه والتعبير عنه يقال له عبقر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0" dur="7889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3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"/>
                            </p:stCondLst>
                            <p:childTnLst>
                              <p:par>
                                <p:cTn id="1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56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09480" y="1600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رُجَّتِ الْأَرْضُ رَجًّ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جِبَالُ بَس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0" y="3505320"/>
            <a:ext cx="1303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بُسَّت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95480" y="3505320"/>
            <a:ext cx="1698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فتَّ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350532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دا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14400" y="3505320"/>
            <a:ext cx="165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28195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fill="hold">
                      <p:stCondLst>
                        <p:cond delay="0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2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4" dur="7001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كَانَت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مُنْبَثّ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3276720"/>
            <a:ext cx="132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هَبَاء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81680" y="4191120"/>
            <a:ext cx="133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نْبَثّ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066680" y="3276720"/>
            <a:ext cx="1633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با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971800" y="4191120"/>
            <a:ext cx="1644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327672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ب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971800" y="3276720"/>
            <a:ext cx="162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درا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66680" y="419112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قل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76920" y="4191120"/>
            <a:ext cx="155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42670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1" dur="indefinite" restart="never" nodeType="tmRoot">
          <p:childTnLst>
            <p:seq>
              <p:cTn id="2012" dur="indefinite" nodeType="mainSeq">
                <p:childTnLst>
                  <p:par>
                    <p:cTn id="2013" fill="hold">
                      <p:stCondLst>
                        <p:cond delay="0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9" dur="5956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2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1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76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سُرُ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0" y="36576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وْضُون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952880" y="36576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س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048120" y="3657600"/>
            <a:ext cx="1639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2193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1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3" dur="3658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6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0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2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1905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لَى مَا يَر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85760" y="350532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فَتُمَارُونَهُ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505320"/>
            <a:ext cx="164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جادل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505320"/>
            <a:ext cx="1674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كذب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5053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تصدق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28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نْهَا وَل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59000" y="3200400"/>
            <a:ext cx="162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صَدَّع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4114800"/>
            <a:ext cx="140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ُنْزِف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32004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يبهم ص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876920" y="32004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3200400"/>
            <a:ext cx="182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تر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76920" y="4114800"/>
            <a:ext cx="1855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ذهب عقول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41148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يبهم أل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11480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4" dur="5956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9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0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560"/>
                            </p:stCondLst>
                            <p:childTnLst>
                              <p:par>
                                <p:cTn id="2153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8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8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1560"/>
                            </p:stCondLst>
                            <p:childTnLst>
                              <p:par>
                                <p:cTn id="216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2060"/>
                            </p:stCondLst>
                            <p:childTnLst>
                              <p:par>
                                <p:cTn id="2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6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7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8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1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2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3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320"/>
                            </p:stCondLst>
                            <p:childTnLst>
                              <p:par>
                                <p:cTn id="21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820"/>
                            </p:stCondLst>
                            <p:childTnLst>
                              <p:par>
                                <p:cTn id="2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320"/>
                            </p:stCondLst>
                            <p:childTnLst>
                              <p:par>
                                <p:cTn id="21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4" fill="hold">
                            <p:stCondLst>
                              <p:cond delay="1820"/>
                            </p:stCondLst>
                            <p:childTnLst>
                              <p:par>
                                <p:cTn id="2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8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0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68580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سِدْرٍ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3320" y="3276720"/>
            <a:ext cx="145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خ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3276720"/>
            <a:ext cx="185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طوع الشو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3276720"/>
            <a:ext cx="1643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 ال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3276720"/>
            <a:ext cx="1797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وكه صغ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0" dur="3553" fill="hold"/>
                                        <p:tgtEl>
                                          <p:spTgt spid="5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23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1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2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3" dur="8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66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7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8" dur="8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71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2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مَنْضُود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934320" y="3352680"/>
            <a:ext cx="1239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طَلْحٍ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863400" y="4191120"/>
            <a:ext cx="1335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نْضُود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71800" y="3352680"/>
            <a:ext cx="1727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3352680"/>
            <a:ext cx="1673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ح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06668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66680" y="4191120"/>
            <a:ext cx="168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419112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4191120"/>
            <a:ext cx="174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0384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5" dur="indefinite" restart="never" nodeType="tmRoot">
          <p:childTnLst>
            <p:seq>
              <p:cTn id="2276" dur="indefinite" nodeType="mainSeq">
                <p:childTnLst>
                  <p:par>
                    <p:cTn id="2277" fill="hold">
                      <p:stCondLst>
                        <p:cond delay="0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5" dur="4128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9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7" fill="hold">
                            <p:stCondLst>
                              <p:cond delay="500"/>
                            </p:stCondLst>
                            <p:childTnLst>
                              <p:par>
                                <p:cTn id="2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أَتْرَاب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3352680"/>
            <a:ext cx="1224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عُرُباً 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10280" y="4267080"/>
            <a:ext cx="1193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أَتْرَاب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10640" y="4267080"/>
            <a:ext cx="252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ات بالس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8195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غنج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05520" y="3352680"/>
            <a:ext cx="1676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 الباد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38080" y="3352680"/>
            <a:ext cx="168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ي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105520" y="426708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يكبر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4267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جول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41911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9" dur="indefinite" restart="never" nodeType="tmRoot">
          <p:childTnLst>
            <p:seq>
              <p:cTn id="2340" dur="indefinite" nodeType="mainSeq">
                <p:childTnLst>
                  <p:par>
                    <p:cTn id="2341" fill="hold">
                      <p:stCondLst>
                        <p:cond delay="0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5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7" dur="3031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500"/>
                            </p:stCondLst>
                            <p:childTnLst>
                              <p:par>
                                <p:cTn id="2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8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0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1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2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1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7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04920" y="1981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ظِلّ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0" y="3429000"/>
            <a:ext cx="138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يَحْم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خان اسو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76920" y="3429000"/>
            <a:ext cx="176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 م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56920" y="3429000"/>
            <a:ext cx="213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 الحرا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9" dur="indefinite" restart="never" nodeType="tmRoot">
          <p:childTnLst>
            <p:seq>
              <p:cTn id="2420" dur="indefinite" nodeType="mainSeq">
                <p:childTnLst>
                  <p:par>
                    <p:cTn id="2421" fill="hold">
                      <p:stCondLst>
                        <p:cond delay="0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7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9" dur="4337" fill="hold"/>
                                        <p:tgtEl>
                                          <p:spTgt spid="5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5" fill="hold">
                            <p:stCondLst>
                              <p:cond delay="500"/>
                            </p:stCondLst>
                            <p:childTnLst>
                              <p:par>
                                <p:cTn id="24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3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7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2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4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7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1000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انُوا يُصِرُّونَ عَل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ْعَظ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934320" y="32004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حِنْث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3200400"/>
            <a:ext cx="1638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قض الع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971800" y="320040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ن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0720" y="3200400"/>
            <a:ext cx="1660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3"/>
          <a:stretch/>
        </p:blipFill>
        <p:spPr>
          <a:xfrm>
            <a:off x="4038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0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7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8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9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658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3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8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0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3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685800" y="2209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آكِلُونَ مِنْ شَجَرٍ مِن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629400" y="350532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زَقُّومٍ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5029200"/>
            <a:ext cx="394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 وكريه الرائ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00200" y="4267080"/>
            <a:ext cx="391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حرق البط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600200" y="3505320"/>
            <a:ext cx="392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 وحم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0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3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5" dur="6949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1" fill="hold">
                            <p:stCondLst>
                              <p:cond delay="500"/>
                            </p:stCondLst>
                            <p:childTnLst>
                              <p:par>
                                <p:cTn id="25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7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6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457200" y="1676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شَارِبُونَ شُرْب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477120" y="29448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هِيم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28800" y="4800600"/>
            <a:ext cx="40384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بل المصابة بمرض العُطا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828800" y="2944800"/>
            <a:ext cx="400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ائهون في 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828800" y="3859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يوانات الشار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6" dur="indefinite" restart="never" nodeType="tmRoot">
          <p:childTnLst>
            <p:seq>
              <p:cTn id="2567" dur="indefinite" nodeType="mainSeq">
                <p:childTnLst>
                  <p:par>
                    <p:cTn id="2568" fill="hold">
                      <p:stCondLst>
                        <p:cond delay="0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2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4" dur="3814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3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4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5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2180"/>
                            </p:stCondLst>
                            <p:childTnLst>
                              <p:par>
                                <p:cTn id="259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0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6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7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1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1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2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33520" y="1905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نَشَاءُ لَجَعَلْنَاهُ حُطَاماً فَظَل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3505320"/>
            <a:ext cx="157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فَكَّه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350532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عج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666880" y="3505320"/>
            <a:ext cx="171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ند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38080" y="3505320"/>
            <a:ext cx="156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ع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4" dur="indefinite" restart="never" nodeType="tmRoot">
          <p:childTnLst>
            <p:seq>
              <p:cTn id="2615" dur="indefinite" nodeType="mainSeq">
                <p:childTnLst>
                  <p:par>
                    <p:cTn id="2616" fill="hold">
                      <p:stCondLst>
                        <p:cond delay="0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0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9666" fill="hold"/>
                                        <p:tgtEl>
                                          <p:spTgt spid="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7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8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9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0" fill="hold">
                            <p:stCondLst>
                              <p:cond delay="560"/>
                            </p:stCondLst>
                            <p:childTnLst>
                              <p:par>
                                <p:cTn id="263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35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6" fill="hold">
                            <p:stCondLst>
                              <p:cond delay="1560"/>
                            </p:stCondLst>
                            <p:childTnLst>
                              <p:par>
                                <p:cTn id="2637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9" dur="8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0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2" dur="8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2560"/>
                            </p:stCondLst>
                            <p:childTnLst>
                              <p:par>
                                <p:cTn id="26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3060"/>
                            </p:stCondLst>
                            <p:childTnLst>
                              <p:par>
                                <p:cTn id="26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5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8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1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2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3" dur="8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66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7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8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914400" y="190512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نَحْنُ مَحْرُو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6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633360" y="3581280"/>
            <a:ext cx="169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َمُغْرَم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358128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خاس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971800" y="358128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ح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3581280"/>
            <a:ext cx="1743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ملزم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0" dur="indefinite" restart="never" nodeType="tmRoot">
          <p:childTnLst>
            <p:seq>
              <p:cTn id="2671" dur="indefinite" nodeType="mainSeq">
                <p:childTnLst>
                  <p:par>
                    <p:cTn id="2672" fill="hold">
                      <p:stCondLst>
                        <p:cond delay="0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8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0" dur="7628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09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0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1" dur="8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4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5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6" dur="8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19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0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1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24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5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6" dur="80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43000" y="15238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لَقَدْ رَآَهُ نَزْلَةً أُخْرَى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نْد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87160" y="3048120"/>
            <a:ext cx="240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سِدْرَةِ الْمُنْتَه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048120"/>
            <a:ext cx="4105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وق السماء الساب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886200"/>
            <a:ext cx="413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جرة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4724280"/>
            <a:ext cx="4146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قام الأخير في الجن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8307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80"/>
                            </p:stCondLst>
                            <p:childTnLst>
                              <p:par>
                                <p:cTn id="1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8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880"/>
                            </p:stCondLst>
                            <p:childTnLst>
                              <p:par>
                                <p:cTn id="1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685800" y="1828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أَنْتُمْ أَنْزَلْتُمُوهُ مِن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مْ نَحْنُ الْمُنْزِل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9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3886200"/>
            <a:ext cx="1417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ْمُزْنِ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0060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895480" y="3886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سح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886200"/>
            <a:ext cx="1681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8" dur="indefinite" restart="never" nodeType="tmRoot">
          <p:childTnLst>
            <p:seq>
              <p:cTn id="2729" dur="indefinite" nodeType="mainSeq">
                <p:childTnLst>
                  <p:par>
                    <p:cTn id="2730" fill="hold">
                      <p:stCondLst>
                        <p:cond delay="0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5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7" dur="9875" fill="hold"/>
                                        <p:tgtEl>
                                          <p:spTgt spid="5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67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8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9" dur="80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2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3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4" dur="8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77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8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9" dur="80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762120" y="18288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فَرَأَيْتُمُ النَّارَ الَّت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950520" y="3352680"/>
            <a:ext cx="126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ُور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3352680"/>
            <a:ext cx="1603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دخ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200400" y="3352680"/>
            <a:ext cx="155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352680"/>
            <a:ext cx="1622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267080" y="2743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0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1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3" dur="5956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0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533520" y="16002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حْنُ جَعَلْنَاهَا تَذْكِرَةً وَمَتَاعا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3352680"/>
            <a:ext cx="1503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لِلْمُقْو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828800" y="42670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بأرض ق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3352680"/>
            <a:ext cx="380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ين لا يخافون شيئ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28800" y="5181480"/>
            <a:ext cx="382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رين الأقوي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26708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9" dur="indefinite" restart="never" nodeType="tmRoot">
          <p:childTnLst>
            <p:seq>
              <p:cTn id="2820" dur="indefinite" nodeType="mainSeq">
                <p:childTnLst>
                  <p:par>
                    <p:cTn id="2821" fill="hold">
                      <p:stCondLst>
                        <p:cond delay="0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2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9" dur="8098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4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5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6" dur="8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7" fill="hold">
                            <p:stCondLst>
                              <p:cond delay="2180"/>
                            </p:stCondLst>
                            <p:childTnLst>
                              <p:par>
                                <p:cTn id="2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8580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بِهَذَا الْحَدِيثِ أَنْتُمْ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3581280"/>
            <a:ext cx="14684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ُدْهِنُو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124080" y="3581280"/>
            <a:ext cx="1528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هاون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876920" y="3581280"/>
            <a:ext cx="1546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219320" y="3581280"/>
            <a:ext cx="164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زح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9625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4" dur="indefinite" restart="never" nodeType="tmRoot">
          <p:childTnLst>
            <p:seq>
              <p:cTn id="2865" dur="indefinite" nodeType="mainSeq">
                <p:childTnLst>
                  <p:par>
                    <p:cTn id="2866" fill="hold">
                      <p:stCondLst>
                        <p:cond delay="0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0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2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4" dur="6949" fill="hold"/>
                                        <p:tgtEl>
                                          <p:spTgt spid="6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838080" y="17524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وْلا إِنْ كُنْتُمْ غَيْر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واقع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350532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مَدِينِين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3505320"/>
            <a:ext cx="1590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زي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800600" y="3505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89548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لي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403848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3" dur="indefinite" restart="never" nodeType="tmRoot">
          <p:childTnLst>
            <p:seq>
              <p:cTn id="2904" dur="indefinite" nodeType="mainSeq">
                <p:childTnLst>
                  <p:par>
                    <p:cTn id="2905" fill="hold">
                      <p:stCondLst>
                        <p:cond delay="0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3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5" dur="7889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500"/>
                            </p:stCondLst>
                            <p:childTnLst>
                              <p:par>
                                <p:cTn id="2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9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3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7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8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9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4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5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94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9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609480" y="12193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آثَارِهِمْ بِرُسُلِنَا وَقَفَّيْنَا بِعِيسَى ابْنِ مَرْيَمَ وَآتَيْنَاهُ الْأِنْجِيلَ وَجَعَلْنَا فِي قُلُوبِ الَّذِينَ اتَّبَعُوهُ رَأْفَةً وَرَحْمَةً وَرَهْبَانِيَّةً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تَبْنَاهَا عَلَيْهِمْ إِلَّا ابْتِغَاءَ رِضْوَانِ اللَّهِ فَمَا رَعَوْهَا حَقَّ رِعَايَتِهَا فَآتَيْنَا الَّذِينَ آمَنُوا مِنْهُمْ أَجْرَهُمْ وَكَثِيرٌ مِنْ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ديد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قَفَّيْن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34320" y="4572000"/>
            <a:ext cx="1341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بْتَدَعُوهَا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105520" y="3657600"/>
            <a:ext cx="158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تبع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65760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ث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21932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رسل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4572000"/>
            <a:ext cx="1603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ترع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572000"/>
            <a:ext cx="162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د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19320" y="4572000"/>
            <a:ext cx="161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لقو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1101960" y="5410080"/>
            <a:ext cx="75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cs typeface="Arial"/>
              </a:rPr>
              <a:t>الابتداع هو إتيان ما لم يسبق إليه في دين أو سنة أو صنعة</a:t>
            </a:r>
            <a:r>
              <a:rPr b="0" lang="ar-SA" sz="24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2" dur="indefinite" restart="never" nodeType="tmRoot">
          <p:childTnLst>
            <p:seq>
              <p:cTn id="2953" dur="indefinite" nodeType="mainSeq">
                <p:childTnLst>
                  <p:par>
                    <p:cTn id="2954" fill="hold">
                      <p:stCondLst>
                        <p:cond delay="0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8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0" dur="67971" fill="hold"/>
                                        <p:tgtEl>
                                          <p:spTgt spid="6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7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9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0" fill="hold">
                            <p:stCondLst>
                              <p:cond delay="0"/>
                            </p:stCondLst>
                            <p:childTnLst>
                              <p:par>
                                <p:cTn id="3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76212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صْحَابُ الْجَنَّةِ يَوْمَئِذٍ خَيْرٌ مُسْتَقَرّاً وَأَحْسَن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352680"/>
            <a:ext cx="1078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َقِيل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819520" y="3352680"/>
            <a:ext cx="2171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الإستراح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105520" y="3352680"/>
            <a:ext cx="2000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كل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2120" y="335268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واباً ومقا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62120" y="48769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يل إسم مكان الاستقرار ومعناه ظاهر من القيلولة اي الاستراحة في منتصف النهار سواء معها نوم أم لا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4" dur="indefinite" restart="never" nodeType="tmRoot">
          <p:childTnLst>
            <p:seq>
              <p:cTn id="3015" dur="indefinite" nodeType="mainSeq">
                <p:childTnLst>
                  <p:par>
                    <p:cTn id="3016" fill="hold">
                      <p:stCondLst>
                        <p:cond delay="0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2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4" dur="9405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7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2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fill="hold">
                            <p:stCondLst>
                              <p:cond delay="1520"/>
                            </p:stCondLst>
                            <p:childTnLst>
                              <p:par>
                                <p:cTn id="30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9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2" fill="hold">
                            <p:stCondLst>
                              <p:cond delay="2520"/>
                            </p:stCondLst>
                            <p:childTnLst>
                              <p:par>
                                <p:cTn id="30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6" fill="hold">
                      <p:stCondLst>
                        <p:cond delay="indefinite"/>
                      </p:stCondLst>
                      <p:childTnLst>
                        <p:par>
                          <p:cTn id="3057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59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0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1" dur="8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4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5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6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69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0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1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3" fill="hold">
                            <p:stCondLst>
                              <p:cond delay="560"/>
                            </p:stCondLst>
                            <p:childTnLst>
                              <p:par>
                                <p:cTn id="30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838080" y="1523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عَاداً وَثَمُودَا وَأَصْحَاب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ُرُوناً بَيْنَ ذَلِكَ كَث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رَّسِّ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ر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876920" y="34290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429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7" dur="indefinite" restart="never" nodeType="tmRoot">
          <p:childTnLst>
            <p:seq>
              <p:cTn id="3078" dur="indefinite" nodeType="mainSeq">
                <p:childTnLst>
                  <p:par>
                    <p:cTn id="3079" fill="hold">
                      <p:stCondLst>
                        <p:cond delay="0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3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5" dur="9405" fill="hold"/>
                                        <p:tgtEl>
                                          <p:spTgt spid="6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6" fill="hold">
                      <p:stCondLst>
                        <p:cond delay="indefinite"/>
                      </p:stCondLst>
                      <p:childTnLst>
                        <p:par>
                          <p:cTn id="3087" fill="hold">
                            <p:stCondLst>
                              <p:cond delay="0"/>
                            </p:stCondLst>
                            <p:childTnLst>
                              <p:par>
                                <p:cTn id="30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1" fill="hold">
                            <p:stCondLst>
                              <p:cond delay="500"/>
                            </p:stCondLst>
                            <p:childTnLst>
                              <p:par>
                                <p:cTn id="30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4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5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6" dur="80"/>
                                        <p:tgtEl>
                                          <p:spTgt spid="6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740"/>
                            </p:stCondLst>
                            <p:childTnLst>
                              <p:par>
                                <p:cTn id="30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1740"/>
                            </p:stCondLst>
                            <p:childTnLst>
                              <p:par>
                                <p:cTn id="310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10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2740"/>
                            </p:stCondLst>
                            <p:childTnLst>
                              <p:par>
                                <p:cTn id="312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2" dur="8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3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8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1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2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3" dur="8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36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7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8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41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2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3" dur="8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906120" cy="73152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838080" y="1752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ّاً ضَرَبْنَا لَهُ الْأَمْثَالَ وَكُلّ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تْب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05720" y="3657600"/>
            <a:ext cx="140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بَّرْنَ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3657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هلك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724280" y="3657600"/>
            <a:ext cx="158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ر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36576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سبن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5" dur="indefinite" restart="never" nodeType="tmRoot">
          <p:childTnLst>
            <p:seq>
              <p:cTn id="3146" dur="indefinite" nodeType="mainSeq">
                <p:childTnLst>
                  <p:par>
                    <p:cTn id="3147" fill="hold">
                      <p:stCondLst>
                        <p:cond delay="0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5" dur="9561" fill="hold"/>
                                        <p:tgtEl>
                                          <p:spTgt spid="6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6" fill="hold">
                      <p:stCondLst>
                        <p:cond delay="indefinite"/>
                      </p:stCondLst>
                      <p:childTnLst>
                        <p:par>
                          <p:cTn id="3157" fill="hold">
                            <p:stCondLst>
                              <p:cond delay="0"/>
                            </p:stCondLst>
                            <p:childTnLst>
                              <p:par>
                                <p:cTn id="3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3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500"/>
                            </p:stCondLst>
                            <p:childTnLst>
                              <p:par>
                                <p:cTn id="3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0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990720" y="144792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َّذِينَ يَقُولُونَ رَبَّنَا اصْرِفْ عَنَّا عَذَابَ جَهَنَّمَ إِنَّ عَذَابَهَا كَانَ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0" y="3200400"/>
            <a:ext cx="1349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غَرَاما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3200400"/>
            <a:ext cx="154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ز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971800" y="3200400"/>
            <a:ext cx="162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وج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09480" y="4687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غرام  ما ينوب الانسان من شدة أو مصيبة فيلازمه لا يفارقه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8" dur="indefinite" restart="never" nodeType="tmRoot">
          <p:childTnLst>
            <p:seq>
              <p:cTn id="3189" dur="indefinite" nodeType="mainSeq">
                <p:childTnLst>
                  <p:par>
                    <p:cTn id="3190" fill="hold">
                      <p:stCondLst>
                        <p:cond delay="0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4" dur="5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6" dur="1259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1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2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3" dur="8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4" fill="hold">
                            <p:stCondLst>
                              <p:cond delay="400"/>
                            </p:stCondLst>
                            <p:childTnLst>
                              <p:par>
                                <p:cTn id="320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5" fill="hold">
                            <p:stCondLst>
                              <p:cond delay="1400"/>
                            </p:stCondLst>
                            <p:childTnLst>
                              <p:par>
                                <p:cTn id="3216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8" dur="8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9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8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4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6" dur="8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7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8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2" fill="hold">
                            <p:stCondLst>
                              <p:cond delay="2400"/>
                            </p:stCondLst>
                            <p:childTnLst>
                              <p:par>
                                <p:cTn id="323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5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0" fill="hold">
                      <p:stCondLst>
                        <p:cond delay="indefinite"/>
                      </p:stCondLst>
                      <p:childTnLst>
                        <p:par>
                          <p:cTn id="3241" fill="hold">
                            <p:stCondLst>
                              <p:cond delay="0"/>
                            </p:stCondLst>
                            <p:childTnLst>
                              <p:par>
                                <p:cTn id="324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3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4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5" dur="8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8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9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0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7" fill="hold">
                            <p:stCondLst>
                              <p:cond delay="280"/>
                            </p:stCondLst>
                            <p:childTnLst>
                              <p:par>
                                <p:cTn id="3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6680" y="1523880"/>
            <a:ext cx="70106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كُمُ الذَّكَرُ وَلَهُ الْأُنْث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ِلْكَ إِذاً قِسْمَةٌ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3429000"/>
            <a:ext cx="1407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ضِيز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71800" y="3429000"/>
            <a:ext cx="158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ئ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1504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429000"/>
            <a:ext cx="1525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اط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419720" y="1066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867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8380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ُولَئِكَ يُجْزَوْن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ea typeface="Arial"/>
              </a:rPr>
              <a:t> الْغُرْفَة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مَا صَبَرُوا وَيُلَقَّوْنَ فِيهَا تَحِيَّةً وَسَلام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فرق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8000" y="365760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ُرْفَة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83808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رجة الع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876920" y="3657600"/>
            <a:ext cx="1812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ص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895480" y="36576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1" dur="indefinite" restart="never" nodeType="tmRoot">
          <p:childTnLst>
            <p:seq>
              <p:cTn id="3262" dur="indefinite" nodeType="mainSeq">
                <p:childTnLst>
                  <p:par>
                    <p:cTn id="3263" fill="hold">
                      <p:stCondLst>
                        <p:cond delay="0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7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9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1" dur="1165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2" fill="hold">
                      <p:stCondLst>
                        <p:cond delay="indefinite"/>
                      </p:stCondLst>
                      <p:childTnLst>
                        <p:par>
                          <p:cTn id="3273" fill="hold">
                            <p:stCondLst>
                              <p:cond delay="0"/>
                            </p:stCondLst>
                            <p:childTnLst>
                              <p:par>
                                <p:cTn id="32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0" fill="hold">
                            <p:stCondLst>
                              <p:cond delay="500"/>
                            </p:stCondLst>
                            <p:childTnLst>
                              <p:par>
                                <p:cTn id="32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3" dur="8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4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5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8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0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2" dur="8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3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8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0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1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2" dur="8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15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6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7" dur="8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20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1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2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685800" y="1676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هَا هُمْ وَ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934320" y="3200400"/>
            <a:ext cx="1319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كُبْكِبُوا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47120" y="5486400"/>
            <a:ext cx="1779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َالْغَاو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029200" y="5486400"/>
            <a:ext cx="182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ا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895480" y="54864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رض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54864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س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28800" y="3200400"/>
            <a:ext cx="440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لقوا على وجوه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28800" y="3962520"/>
            <a:ext cx="4443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عذبوا في ال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28800" y="4724280"/>
            <a:ext cx="448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قطوا في جهن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4" dur="indefinite" restart="never" nodeType="tmRoot">
          <p:childTnLst>
            <p:seq>
              <p:cTn id="3325" dur="indefinite" nodeType="mainSeq">
                <p:childTnLst>
                  <p:par>
                    <p:cTn id="3326" fill="hold">
                      <p:stCondLst>
                        <p:cond delay="0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0" dur="8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1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8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7" dur="4337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8" fill="hold">
                      <p:stCondLst>
                        <p:cond delay="indefinite"/>
                      </p:stCondLst>
                      <p:childTnLst>
                        <p:par>
                          <p:cTn id="3339" fill="hold">
                            <p:stCondLst>
                              <p:cond delay="0"/>
                            </p:stCondLst>
                            <p:childTnLst>
                              <p:par>
                                <p:cTn id="3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4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0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1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2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1140"/>
                            </p:stCondLst>
                            <p:childTnLst>
                              <p:par>
                                <p:cTn id="3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4" fill="hold">
                            <p:stCondLst>
                              <p:cond delay="1740"/>
                            </p:stCondLst>
                            <p:childTnLst>
                              <p:par>
                                <p:cTn id="3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6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7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8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3" fill="hold">
                            <p:stCondLst>
                              <p:cond delay="600"/>
                            </p:stCondLst>
                            <p:childTnLst>
                              <p:par>
                                <p:cTn id="3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7" fill="hold">
                            <p:stCondLst>
                              <p:cond delay="1100"/>
                            </p:stCondLst>
                            <p:childTnLst>
                              <p:par>
                                <p:cTn id="3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1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2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3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2100"/>
                            </p:stCondLst>
                            <p:childTnLst>
                              <p:par>
                                <p:cTn id="340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6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8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1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10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3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6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10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8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533520" y="19051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تَبْنُونَ بِكُلِّ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آيَة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010280" y="3124080"/>
            <a:ext cx="1192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رِيعٍ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000920" y="5410080"/>
            <a:ext cx="130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تَعْبَثُو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676520" y="3809880"/>
            <a:ext cx="48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 المرتف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676520" y="3124080"/>
            <a:ext cx="480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رض الخض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676520" y="4495680"/>
            <a:ext cx="480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 فيه م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505320" y="54100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ل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257800" y="54100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خرب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784520" y="5410080"/>
            <a:ext cx="1415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ضيّ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29718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0" dur="indefinite" restart="never" nodeType="tmRoot">
          <p:childTnLst>
            <p:seq>
              <p:cTn id="3431" dur="indefinite" nodeType="mainSeq">
                <p:childTnLst>
                  <p:par>
                    <p:cTn id="3432" fill="hold">
                      <p:stCondLst>
                        <p:cond delay="0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8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0" dur="5956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9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fill="hold">
                            <p:stCondLst>
                              <p:cond delay="1020"/>
                            </p:stCondLst>
                            <p:childTnLst>
                              <p:par>
                                <p:cTn id="34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7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8" fill="hold">
                            <p:stCondLst>
                              <p:cond delay="2020"/>
                            </p:stCondLst>
                            <p:childTnLst>
                              <p:par>
                                <p:cTn id="34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1" dur="8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2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8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0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3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7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5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1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2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3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83808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نْحِتُونَ مِنَ الْجِبَالِ بُيُوتاً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شعراء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901920" y="342900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فَارِهِين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200400" y="342900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ط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29200" y="3429000"/>
            <a:ext cx="1679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ارغ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371600" y="3429000"/>
            <a:ext cx="158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24" dur="indefinite" restart="never" nodeType="tmRoot">
          <p:childTnLst>
            <p:seq>
              <p:cTn id="3525" dur="indefinite" nodeType="mainSeq">
                <p:childTnLst>
                  <p:par>
                    <p:cTn id="3526" fill="hold">
                      <p:stCondLst>
                        <p:cond delay="0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4" dur="5956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5" fill="hold">
                      <p:stCondLst>
                        <p:cond delay="indefinite"/>
                      </p:stCondLst>
                      <p:childTnLst>
                        <p:par>
                          <p:cTn id="3536" fill="hold">
                            <p:stCondLst>
                              <p:cond delay="0"/>
                            </p:stCondLst>
                            <p:childTnLst>
                              <p:par>
                                <p:cTn id="35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500"/>
                            </p:stCondLst>
                            <p:childTnLst>
                              <p:par>
                                <p:cTn id="35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3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4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5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6" fill="hold">
                            <p:stCondLst>
                              <p:cond delay="780"/>
                            </p:stCondLst>
                            <p:childTnLst>
                              <p:par>
                                <p:cTn id="35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9" dur="8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0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1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8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1780"/>
                            </p:stCondLst>
                            <p:childTnLst>
                              <p:par>
                                <p:cTn id="35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2280"/>
                            </p:stCondLst>
                            <p:childTnLst>
                              <p:par>
                                <p:cTn id="35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2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3" fill="hold">
                      <p:stCondLst>
                        <p:cond delay="indefinite"/>
                      </p:stCondLst>
                      <p:childTnLst>
                        <p:par>
                          <p:cTn id="3564" fill="hold">
                            <p:stCondLst>
                              <p:cond delay="0"/>
                            </p:stCondLst>
                            <p:childTnLst>
                              <p:par>
                                <p:cTn id="356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66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7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8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1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2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3" dur="8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76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7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8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762120" y="160020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َّا يَسْجُدُوا لِلَّهِ الَّذِي يُخْرِج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ِي السَّمَاوَاتِ وَالْأَرْضِ وَيَعْلَمُ مَا تُخْفُونَ وَمَا تُعْلِن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781680" y="3276720"/>
            <a:ext cx="1354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ْخَبْء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32767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ت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00600" y="3276720"/>
            <a:ext cx="173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مط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سر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914400" y="462276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بء استعارة كأن الأشياء مخبأة مستورة تحت أطباق العدم ،فيخرجها الله تعالى من العدم إلى الوجود واحداً بعد الآخ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0" dur="indefinite" restart="never" nodeType="tmRoot">
          <p:childTnLst>
            <p:seq>
              <p:cTn id="3581" dur="indefinite" nodeType="mainSeq">
                <p:childTnLst>
                  <p:par>
                    <p:cTn id="3582" fill="hold">
                      <p:stCondLst>
                        <p:cond delay="0"/>
                      </p:stCondLst>
                      <p:childTnLst>
                        <p:par>
                          <p:cTn id="3583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0" dur="13218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1" fill="hold">
                      <p:stCondLst>
                        <p:cond delay="indefinite"/>
                      </p:stCondLst>
                      <p:childTnLst>
                        <p:par>
                          <p:cTn id="3592" fill="hold">
                            <p:stCondLst>
                              <p:cond delay="0"/>
                            </p:stCondLst>
                            <p:childTnLst>
                              <p:par>
                                <p:cTn id="35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9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1" fill="hold">
                      <p:stCondLst>
                        <p:cond delay="indefinite"/>
                      </p:stCondLst>
                      <p:childTnLst>
                        <p:par>
                          <p:cTn id="3612" fill="hold">
                            <p:stCondLst>
                              <p:cond delay="0"/>
                            </p:stCondLst>
                            <p:childTnLst>
                              <p:par>
                                <p:cTn id="36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0"/>
                            </p:stCondLst>
                            <p:childTnLst>
                              <p:par>
                                <p:cTn id="3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-457200" y="-1522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838080" y="114300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ِيلَ لَهَا ادْخُلِي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لَمَّا رَأَتْهُ حَسِبَتْهُ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َشَفَتْ عَنْ سَاقَيْهَا قَالَ إِنَّهُ صَرْحٌ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ِنْ </a:t>
            </a: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لَتْ رَبِّ إِنِّي ظَلَمْتُ نَفْسِي وَأَسْلَمْتُ مَعَ سُلَيْمَانَ لِلَّهِ رَبِّ الْعَالَم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ن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011000" y="5410080"/>
            <a:ext cx="1297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قَوَارِير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086600" y="3886200"/>
            <a:ext cx="1166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لُجَّةً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086600" y="464832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مُمَرَّدٌ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032960" y="3124080"/>
            <a:ext cx="131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a42c8"/>
                </a:solidFill>
                <a:latin typeface="Arial"/>
                <a:cs typeface="Arial"/>
              </a:rPr>
              <a:t>الصَّرْحَ</a:t>
            </a:r>
            <a:r>
              <a:rPr b="0" lang="ar-LB" sz="2800" spc="-1" strike="noStrike">
                <a:solidFill>
                  <a:srgbClr val="da42c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743200" y="3124080"/>
            <a:ext cx="194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العا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876920" y="3124080"/>
            <a:ext cx="1996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ناء في الجب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62120" y="312408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يت الكب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876920" y="3886200"/>
            <a:ext cx="200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ء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43200" y="3886200"/>
            <a:ext cx="194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ي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62120" y="3886200"/>
            <a:ext cx="185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ل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876920" y="46483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مل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743200" y="4648320"/>
            <a:ext cx="1962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62120" y="46483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76920" y="5410080"/>
            <a:ext cx="1995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نابي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743200" y="5410080"/>
            <a:ext cx="190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62120" y="5410080"/>
            <a:ext cx="1782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وامي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1" dur="indefinite" restart="never" nodeType="tmRoot">
          <p:childTnLst>
            <p:seq>
              <p:cTn id="3622" dur="indefinite" nodeType="mainSeq">
                <p:childTnLst>
                  <p:par>
                    <p:cTn id="3623" fill="hold">
                      <p:stCondLst>
                        <p:cond delay="0"/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0" dur="32235" fill="hold"/>
                                        <p:tgtEl>
                                          <p:spTgt spid="7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5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1" fill="hold">
                            <p:stCondLst>
                              <p:cond delay="500"/>
                            </p:stCondLst>
                            <p:childTnLst>
                              <p:par>
                                <p:cTn id="36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0" dur="8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1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8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4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9" dur="8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0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1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8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5" fill="hold">
                            <p:stCondLst>
                              <p:cond delay="500"/>
                            </p:stCondLst>
                            <p:childTnLst>
                              <p:par>
                                <p:cTn id="373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9" name=""/>
          <p:cNvSpPr/>
          <p:nvPr/>
        </p:nvSpPr>
        <p:spPr>
          <a:xfrm>
            <a:off x="609480" y="9144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ا كَانَ لِنَبِيٍّ أَنْ يَكُونَ لَهُ أَسْرَى حَتَّى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ea typeface="Arial"/>
              </a:rPr>
              <a:t> يُثْخِ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ْأَرْضِ تُرِيدُو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دُّنْيَا وَاللَّهُ يُرِيدُ الْآخِرَةَ وَاللَّهُ عَزِيز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لأنفا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086600" y="2057400"/>
            <a:ext cx="1170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ثْخِ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0481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ل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105520" y="205740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2057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ار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0280" y="3352680"/>
            <a:ext cx="121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362320" y="396252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خدع به الانس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362320" y="33526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طرأ ويز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62320" y="457200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نراه على غير حقيق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90720" y="2590920"/>
            <a:ext cx="733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ثخن : المراد استقرار دينه بين الناس كأنه شيء غليظ فتجمد وثبت بعد أن كان رقيقاً سائلاً مخشي الزوال بالسيلان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5181480"/>
            <a:ext cx="69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عرض : أي ما يطرأ على الشيء ويسرع فيه الزوال ، ولذلك سمي به متاع الدنيا لدثوره وزواله عما قلي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7" dur="indefinite" restart="never" nodeType="tmRoot">
          <p:childTnLst>
            <p:seq>
              <p:cTn id="3758" dur="indefinite" nodeType="mainSeq">
                <p:childTnLst>
                  <p:par>
                    <p:cTn id="3759" fill="hold">
                      <p:stCondLst>
                        <p:cond delay="0"/>
                      </p:stCondLst>
                      <p:childTnLst>
                        <p:par>
                          <p:cTn id="3760" fill="hold">
                            <p:stCondLst>
                              <p:cond delay="0"/>
                            </p:stCondLst>
                            <p:childTnLst>
                              <p:par>
                                <p:cTn id="3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3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5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7" dur="23929" fill="hold"/>
                                        <p:tgtEl>
                                          <p:spTgt spid="7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7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3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0"/>
                            </p:stCondLst>
                            <p:childTnLst>
                              <p:par>
                                <p:cTn id="37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8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9" fill="hold">
                      <p:stCondLst>
                        <p:cond delay="indefinite"/>
                      </p:stCondLst>
                      <p:childTnLst>
                        <p:par>
                          <p:cTn id="3800" fill="hold">
                            <p:stCondLst>
                              <p:cond delay="0"/>
                            </p:stCondLst>
                            <p:childTnLst>
                              <p:par>
                                <p:cTn id="38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3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7" fill="hold">
                            <p:stCondLst>
                              <p:cond delay="500"/>
                            </p:stCondLst>
                            <p:childTnLst>
                              <p:par>
                                <p:cTn id="38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9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>
            <a:off x="45720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يْفَ وَإِنْ يَظْهَرُوا عَلَيْكُمْ 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ك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ُرْضُونَكُمْ بِأَفْوَاهِهِمْ وَتَأْبَى قُلُوبُهُمْ وَأَكْثَرُهُمْ فَاسِق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934320" y="3200400"/>
            <a:ext cx="128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رْقُب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934320" y="4038480"/>
            <a:ext cx="1303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إِلّ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934320" y="4876920"/>
            <a:ext cx="1317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ذِمّ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952880" y="3200400"/>
            <a:ext cx="160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حفظ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71800" y="3200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ه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914400" y="3200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د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71800" y="40384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ا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ير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914400" y="40384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ه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71800" y="48769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14400" y="48769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م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27432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3" dur="indefinite" restart="never" nodeType="tmRoot">
          <p:childTnLst>
            <p:seq>
              <p:cTn id="3834" dur="indefinite" nodeType="mainSeq">
                <p:childTnLst>
                  <p:par>
                    <p:cTn id="3835" fill="hold">
                      <p:stCondLst>
                        <p:cond delay="0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9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0" dur="1000" fill="hold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1" dur="10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3" dur="19018" fill="hold"/>
                                        <p:tgtEl>
                                          <p:spTgt spid="7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50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6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1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9" fill="hold">
                      <p:stCondLst>
                        <p:cond delay="indefinite"/>
                      </p:stCondLst>
                      <p:childTnLst>
                        <p:par>
                          <p:cTn id="3870" fill="hold">
                            <p:stCondLst>
                              <p:cond delay="0"/>
                            </p:stCondLst>
                            <p:childTnLst>
                              <p:par>
                                <p:cTn id="38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5" fill="hold">
                            <p:stCondLst>
                              <p:cond delay="0"/>
                            </p:stCondLst>
                            <p:childTnLst>
                              <p:par>
                                <p:cTn id="38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5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93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fill="hold">
                      <p:stCondLst>
                        <p:cond delay="indefinite"/>
                      </p:stCondLst>
                      <p:childTnLst>
                        <p:par>
                          <p:cTn id="3895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0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4" fill="hold">
                            <p:stCondLst>
                              <p:cond delay="500"/>
                            </p:stCondLst>
                            <p:childTnLst>
                              <p:par>
                                <p:cTn id="39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9" fill="hold">
                      <p:stCondLst>
                        <p:cond delay="indefinite"/>
                      </p:stCondLst>
                      <p:childTnLst>
                        <p:par>
                          <p:cTn id="3920" fill="hold">
                            <p:stCondLst>
                              <p:cond delay="0"/>
                            </p:stCondLst>
                            <p:childTnLst>
                              <p:par>
                                <p:cTn id="39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762120" y="15238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مْ حَسِبْتُمْ أَنْ تُتْرَكُوا وَلَمَّا يَعْلَمِ اللَّهُ الَّذِينَ جَاهَدُوا مِنْكُمْ وَلَمْ يَتَّخِذُوا مِنْ دُونِ اللَّهِ وَلا رَسُولِهِ وَلا الْمُؤْمِنِي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لَّهُ خَبِيرٌ بِمَا تَعْمَل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934320" y="36576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لِيجَة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5288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خلا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8954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38080" y="365760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ق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03680" y="4800600"/>
            <a:ext cx="71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ليجة :أي  ما يتخذه الانسان معتمداً عليه وليس من أهل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2819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5" dur="indefinite" restart="never" nodeType="tmRoot">
          <p:childTnLst>
            <p:seq>
              <p:cTn id="3926" dur="indefinite" nodeType="mainSeq">
                <p:childTnLst>
                  <p:par>
                    <p:cTn id="3927" fill="hold">
                      <p:stCondLst>
                        <p:cond delay="0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1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2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3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5" dur="23876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6" fill="hold">
                      <p:stCondLst>
                        <p:cond delay="indefinite"/>
                      </p:stCondLst>
                      <p:childTnLst>
                        <p:par>
                          <p:cTn id="3937" fill="hold">
                            <p:stCondLst>
                              <p:cond delay="0"/>
                            </p:stCondLst>
                            <p:childTnLst>
                              <p:par>
                                <p:cTn id="39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1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4" fill="hold">
                            <p:stCondLst>
                              <p:cond delay="500"/>
                            </p:stCondLst>
                            <p:childTnLst>
                              <p:par>
                                <p:cTn id="39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2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1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2" dur="5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6" fill="hold">
                            <p:stCondLst>
                              <p:cond delay="500"/>
                            </p:stCondLst>
                            <p:childTnLst>
                              <p:par>
                                <p:cTn id="39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685800" y="1295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قَالَتِ الْيَهُودُ عُزَيْرٌ ابْنُ اللَّهِ وَقَالَتِ النَّصَارَى الْمَسِيحُ ابْنُ اللَّهِ ذَلِكَ قَوْلُهُمْ بِأَفْوَاهِهِ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وْلَ الَّذِينَ كَفَرُوا مِنْ قَبْلُ قَاتَلَهُمُ اللَّهُ أَنَّى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766920" y="3429000"/>
            <a:ext cx="163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ضَاهِئ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858000" y="4343400"/>
            <a:ext cx="1436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ُؤْفَك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666880" y="34290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اب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006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أخذ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5800" y="3429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صدق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8006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صر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66880" y="43434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نته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43434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اف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70" dur="indefinite" restart="never" nodeType="tmRoot">
          <p:childTnLst>
            <p:seq>
              <p:cTn id="3971" dur="indefinite" nodeType="mainSeq">
                <p:childTnLst>
                  <p:par>
                    <p:cTn id="3972" fill="hold">
                      <p:stCondLst>
                        <p:cond delay="0"/>
                      </p:stCondLst>
                      <p:childTnLst>
                        <p:par>
                          <p:cTn id="3973" fill="hold">
                            <p:stCondLst>
                              <p:cond delay="0"/>
                            </p:stCondLst>
                            <p:childTnLst>
                              <p:par>
                                <p:cTn id="39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6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8" dur="27429" fill="hold"/>
                                        <p:tgtEl>
                                          <p:spTgt spid="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85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9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7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5" fill="hold">
                            <p:stCondLst>
                              <p:cond delay="0"/>
                            </p:stCondLst>
                            <p:childTnLst>
                              <p:par>
                                <p:cTn id="40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3" fill="hold">
                      <p:stCondLst>
                        <p:cond delay="indefinite"/>
                      </p:stCondLst>
                      <p:childTnLst>
                        <p:par>
                          <p:cTn id="4024" fill="hold">
                            <p:stCondLst>
                              <p:cond delay="0"/>
                            </p:stCondLst>
                            <p:childTnLst>
                              <p:par>
                                <p:cTn id="4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2120" y="1600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َّذِينَ يَجْتَنِبُونَ كَبَائِرَ الْأِثْمِ وَالْفَوَاحِشَ إِلَّا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رَبَّكَ وَاسِعُ الْمَغْفِرَةِ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0" y="3657600"/>
            <a:ext cx="1251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لَّمَمَ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365760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اصي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3657600"/>
            <a:ext cx="170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غ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6576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ب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458080" y="487692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من اللمم  المعاصي الصغير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1407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2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320"/>
                            </p:stCondLst>
                            <p:childTnLst>
                              <p:par>
                                <p:cTn id="2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685800" y="12193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زِيَادَةٌ فِي الْكُفْرِ يُضَلُّ بِهِ الَّذِينَ كَفَرُوا يُحِلُّونَهُ عَاماً وَيُحَرِّمُونَهُ عَام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ِدَّةَ مَا حَرَّمَ اللَّهُ فَيُحِلُّوا مَا حَرَّمَ اللَّهُ زُيِّنَ لَهُمْ سُوءُ أَعْمَالِهِمْ وَاللَّهُ لا يَهْدِي الْقَوْمَ الْكَاف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781680" y="3124080"/>
            <a:ext cx="1397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نَّسِيء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0" y="4876920"/>
            <a:ext cx="1374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لِيُوَاطِئ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3124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أ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895480" y="3124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سي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91440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71800" y="4876920"/>
            <a:ext cx="168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وافق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5029200" y="4876920"/>
            <a:ext cx="1533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14400" y="4876920"/>
            <a:ext cx="1757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حرِّ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914400" y="3886200"/>
            <a:ext cx="733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أنهم كانوا يأخرون حرمة شهر حرام إلى بعض الشهو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ير المحرمة التي بعد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9" dur="indefinite" restart="never" nodeType="tmRoot">
          <p:childTnLst>
            <p:seq>
              <p:cTn id="4030" dur="indefinite" nodeType="mainSeq">
                <p:childTnLst>
                  <p:par>
                    <p:cTn id="4031" fill="hold">
                      <p:stCondLst>
                        <p:cond delay="0"/>
                      </p:stCondLst>
                      <p:childTnLst>
                        <p:par>
                          <p:cTn id="4032" fill="hold">
                            <p:stCondLst>
                              <p:cond delay="0"/>
                            </p:stCondLst>
                            <p:childTnLst>
                              <p:par>
                                <p:cTn id="40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5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6" dur="500" fill="hold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8" dur="36154" fill="hold"/>
                                        <p:tgtEl>
                                          <p:spTgt spid="8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9" fill="hold">
                      <p:stCondLst>
                        <p:cond delay="indefinite"/>
                      </p:stCondLst>
                      <p:childTnLst>
                        <p:par>
                          <p:cTn id="4040" fill="hold">
                            <p:stCondLst>
                              <p:cond delay="0"/>
                            </p:stCondLst>
                            <p:childTnLst>
                              <p:par>
                                <p:cTn id="40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5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7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4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500"/>
                            </p:stCondLst>
                            <p:childTnLst>
                              <p:par>
                                <p:cTn id="4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73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6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7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8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685800" y="17524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اهِدُوا بِأَمْوَالِكُمْ وَأَنْفُسِكُمْ فِي سَبِيلِ اللَّهِ ذَلِكُمْ خَيْرٌ لَكُمْ إِنْ كُنْتُمْ تَعْلَم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58000" y="320040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نْفِرُوا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0" y="40384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خِفَاف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858000" y="4876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ثِقَا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90720" y="3200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خرج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52880" y="32004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هرب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71800" y="32004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دم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95288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با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71800" y="4038480"/>
            <a:ext cx="15238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مو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40384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اء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971800" y="48769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يوخ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5288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ض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90720" y="48769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لا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5" dur="indefinite" restart="never" nodeType="tmRoot">
          <p:childTnLst>
            <p:seq>
              <p:cTn id="4096" dur="indefinite" nodeType="mainSeq">
                <p:childTnLst>
                  <p:par>
                    <p:cTn id="4097" fill="hold">
                      <p:stCondLst>
                        <p:cond delay="0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5" dur="17868" fill="hold"/>
                                        <p:tgtEl>
                                          <p:spTgt spid="8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6" fill="hold">
                      <p:stCondLst>
                        <p:cond delay="indefinite"/>
                      </p:stCondLst>
                      <p:childTnLst>
                        <p:par>
                          <p:cTn id="4107" fill="hold">
                            <p:stCondLst>
                              <p:cond delay="0"/>
                            </p:stCondLst>
                            <p:childTnLst>
                              <p:par>
                                <p:cTn id="4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0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1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2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6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6" fill="hold">
                      <p:stCondLst>
                        <p:cond delay="indefinite"/>
                      </p:stCondLst>
                      <p:childTnLst>
                        <p:par>
                          <p:cTn id="4127" fill="hold">
                            <p:stCondLst>
                              <p:cond delay="0"/>
                            </p:stCondLst>
                            <p:childTnLst>
                              <p:par>
                                <p:cTn id="4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2" fill="hold">
                            <p:stCondLst>
                              <p:cond delay="0"/>
                            </p:stCondLst>
                            <p:childTnLst>
                              <p:par>
                                <p:cTn id="4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5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7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fill="hold">
                      <p:stCondLst>
                        <p:cond delay="indefinite"/>
                      </p:stCondLst>
                      <p:childTnLst>
                        <p:par>
                          <p:cTn id="4152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1" fill="hold">
                            <p:stCondLst>
                              <p:cond delay="500"/>
                            </p:stCondLst>
                            <p:childTnLst>
                              <p:par>
                                <p:cTn id="4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5" name=""/>
          <p:cNvSpPr/>
          <p:nvPr/>
        </p:nvSpPr>
        <p:spPr>
          <a:xfrm>
            <a:off x="609480" y="13716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ْ كَا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رِيباً وَسَفَراً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تَّبَعُوكَ وَلَكِنْ بَعُدَتْ عَلَيْهِمُ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سَيَحْلِفُونَ بِاللَّهِ لَوِ اسْتَطَعْنَا لَخَرَجْنَا مَعَكُمْ يُهْلِكُونَ أَنْفُسَهُمْ وَاللَّهُ يَعْلَمُ إِنَّهُمْ لَكَاذِب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477120" y="32767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عَرَض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4191120"/>
            <a:ext cx="1671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قَاصِد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477120" y="5105520"/>
            <a:ext cx="1638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شُّقَّةُ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572000" y="3276720"/>
            <a:ext cx="1697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7432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فأ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572000" y="41911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ه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74320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غو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838080" y="4191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ب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51055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د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838080" y="51055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سا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43200" y="51055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ك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3"/>
          <a:stretch/>
        </p:blipFill>
        <p:spPr>
          <a:xfrm>
            <a:off x="1828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2" dur="indefinite" restart="never" nodeType="tmRoot">
          <p:childTnLst>
            <p:seq>
              <p:cTn id="4183" dur="indefinite" nodeType="mainSeq">
                <p:childTnLst>
                  <p:par>
                    <p:cTn id="4184" fill="hold">
                      <p:stCondLst>
                        <p:cond delay="0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8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9" dur="10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0" dur="10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2" dur="28526" fill="hold"/>
                                        <p:tgtEl>
                                          <p:spTgt spid="8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1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7" fill="hold">
                            <p:stCondLst>
                              <p:cond delay="0"/>
                            </p:stCondLst>
                            <p:childTnLst>
                              <p:par>
                                <p:cTn id="42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22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1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2" fill="hold">
                            <p:stCondLst>
                              <p:cond delay="0"/>
                            </p:stCondLst>
                            <p:childTnLst>
                              <p:par>
                                <p:cTn id="4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6" fill="hold">
                            <p:stCondLst>
                              <p:cond delay="500"/>
                            </p:stCondLst>
                            <p:childTnLst>
                              <p:par>
                                <p:cTn id="42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fill="hold">
                      <p:stCondLst>
                        <p:cond delay="indefinite"/>
                      </p:stCondLst>
                      <p:childTnLst>
                        <p:par>
                          <p:cTn id="4262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457200" y="1676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وْ يَجِدُونَ مَلْجَأً أَوْ مَغَارَاتٍ أَو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َوَلَّوْا إِلَيْهِ وَهُم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086600" y="33526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مُدَّخَلاً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086600" y="4343400"/>
            <a:ext cx="1336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جْمَحُو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800600" y="3352680"/>
            <a:ext cx="220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لكاً في الا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666880" y="33526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كاناً خف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85800" y="33526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بل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876920" y="4343400"/>
            <a:ext cx="214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666880" y="4343400"/>
            <a:ext cx="215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ختبئ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85800" y="4343400"/>
            <a:ext cx="1876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297180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7" dur="indefinite" restart="never" nodeType="tmRoot">
          <p:childTnLst>
            <p:seq>
              <p:cTn id="4268" dur="indefinite" nodeType="mainSeq">
                <p:childTnLst>
                  <p:par>
                    <p:cTn id="4269" fill="hold">
                      <p:stCondLst>
                        <p:cond delay="0"/>
                      </p:stCondLst>
                      <p:childTnLst>
                        <p:par>
                          <p:cTn id="4270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75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7" dur="11599" fill="hold"/>
                                        <p:tgtEl>
                                          <p:spTgt spid="8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8" fill="hold">
                      <p:stCondLst>
                        <p:cond delay="indefinite"/>
                      </p:stCondLst>
                      <p:childTnLst>
                        <p:par>
                          <p:cTn id="4279" fill="hold">
                            <p:stCondLst>
                              <p:cond delay="0"/>
                            </p:stCondLst>
                            <p:childTnLst>
                              <p:par>
                                <p:cTn id="4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2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3" fill="hold">
                            <p:stCondLst>
                              <p:cond delay="500"/>
                            </p:stCondLst>
                            <p:childTnLst>
                              <p:par>
                                <p:cTn id="42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7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7" fill="hold">
                            <p:stCondLst>
                              <p:cond delay="500"/>
                            </p:stCondLst>
                            <p:childTnLst>
                              <p:par>
                                <p:cTn id="4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0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9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0" dur="1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1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2" fill="hold">
                      <p:stCondLst>
                        <p:cond delay="indefinite"/>
                      </p:stCondLst>
                      <p:childTnLst>
                        <p:par>
                          <p:cTn id="4323" fill="hold">
                            <p:stCondLst>
                              <p:cond delay="0"/>
                            </p:stCondLst>
                            <p:childTnLst>
                              <p:par>
                                <p:cTn id="4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533520" y="160020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ْ مَنْ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ِي الصَّدَقَاتِ فَإِنْ أُعْطُوا مِنْهَا رَضُوا وَإِنْ لَمْ يُعْطَوْا مِنْهَا إِذَا هُمْ يَسْخَطُون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81680" y="3352680"/>
            <a:ext cx="1382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يَلْمِزُك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33526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ي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800600" y="3352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غمز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90720" y="3352680"/>
            <a:ext cx="1541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طالب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38080" y="464832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يلمزك : المقصود أنهم  كانوا يعيبونك في قسمتها إذا لم تعطهم منها لعدم إستحقاقهم ذلك أ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000" spc="-1" strike="noStrike">
                <a:solidFill>
                  <a:srgbClr val="010199"/>
                </a:solidFill>
                <a:latin typeface="Arial"/>
                <a:cs typeface="Arial"/>
              </a:rPr>
              <a:t>لأسباب أخرى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8" dur="indefinite" restart="never" nodeType="tmRoot">
          <p:childTnLst>
            <p:seq>
              <p:cTn id="4329" dur="indefinite" nodeType="mainSeq">
                <p:childTnLst>
                  <p:par>
                    <p:cTn id="4330" fill="hold">
                      <p:stCondLst>
                        <p:cond delay="0"/>
                      </p:stCondLst>
                      <p:childTnLst>
                        <p:par>
                          <p:cTn id="4331" fill="hold">
                            <p:stCondLst>
                              <p:cond delay="0"/>
                            </p:stCondLst>
                            <p:childTnLst>
                              <p:par>
                                <p:cTn id="43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4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5" dur="500" fill="hold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37" dur="16562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4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8" fill="hold">
                      <p:stCondLst>
                        <p:cond delay="indefinite"/>
                      </p:stCondLst>
                      <p:childTnLst>
                        <p:par>
                          <p:cTn id="4359" fill="hold">
                            <p:stCondLst>
                              <p:cond delay="0"/>
                            </p:stCondLst>
                            <p:childTnLst>
                              <p:par>
                                <p:cTn id="43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685800" y="914400"/>
            <a:ext cx="769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مَا الصَّدَقَاتُ لِلْفُقَرَاءِ وَالْمَسَاكِينِ وَالْعَامِلِينَ عَلَيْهَا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الرِّقَابِ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فِي سَبِيلِ اللَّهِ وَابْنِ السَّبِيلِ فَرِيضَةً مِنَ اللَّهِ وَاللَّهُ عَلِيمٌ حَكِي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928840" y="2514600"/>
            <a:ext cx="269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َلَّفَةِ قُلُوبُهُمْ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39560" y="3200400"/>
            <a:ext cx="610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وحدوا الله ولم تدخل المعرفة قلوبه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1219320" y="2514600"/>
            <a:ext cx="4522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يخشون الله قلوبهم رقي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219320" y="3886200"/>
            <a:ext cx="455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م ليس في قلوبهم إيم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572000"/>
            <a:ext cx="202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غَارِمِينَ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263120" y="4572000"/>
            <a:ext cx="164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هاج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4572000"/>
            <a:ext cx="1346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ديون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819520" y="4572000"/>
            <a:ext cx="136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ق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43000" y="5257800"/>
            <a:ext cx="67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قصود بالغارمين الناس الذين تراكمت عليهم الديون  من أعم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اموا بها في غير معصية الله تعال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3"/>
          <a:stretch/>
        </p:blipFill>
        <p:spPr>
          <a:xfrm>
            <a:off x="2133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8" dur="indefinite" restart="never" nodeType="tmRoot">
          <p:childTnLst>
            <p:seq>
              <p:cTn id="4369" dur="indefinite" nodeType="mainSeq">
                <p:childTnLst>
                  <p:par>
                    <p:cTn id="4370" fill="hold">
                      <p:stCondLst>
                        <p:cond delay="0"/>
                      </p:stCondLst>
                      <p:childTnLst>
                        <p:par>
                          <p:cTn id="4371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4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5" dur="500" fill="hold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7" dur="30929" fill="hold"/>
                                        <p:tgtEl>
                                          <p:spTgt spid="8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8" fill="hold">
                      <p:stCondLst>
                        <p:cond delay="indefinite"/>
                      </p:stCondLst>
                      <p:childTnLst>
                        <p:par>
                          <p:cTn id="4379" fill="hold">
                            <p:stCondLst>
                              <p:cond delay="0"/>
                            </p:stCondLst>
                            <p:childTnLst>
                              <p:par>
                                <p:cTn id="4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8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3" fill="hold">
                            <p:stCondLst>
                              <p:cond delay="500"/>
                            </p:stCondLst>
                            <p:childTnLst>
                              <p:par>
                                <p:cTn id="4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2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16" dur="1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6" fill="hold">
                      <p:stCondLst>
                        <p:cond delay="indefinite"/>
                      </p:stCondLst>
                      <p:childTnLst>
                        <p:par>
                          <p:cTn id="4427" fill="hold">
                            <p:stCondLst>
                              <p:cond delay="0"/>
                            </p:stCondLst>
                            <p:childTnLst>
                              <p:par>
                                <p:cTn id="44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838080" y="13716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مِنْهُمُ الَّذِينَ يُؤْذُونَ النَّبِيَّ وَيَقُولُونَ هُو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لْ أُذُنُ خَيْرٍ لَكُمْ يُؤْمِنُ بِاللَّهِ وَيُؤْمِنُ لِلْمُؤْمِنِينَ وَرَحْمَةٌ لِلَّذِينَ آمَنُوا مِنْكُمْ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...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992320" y="3429000"/>
            <a:ext cx="2108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رحة السم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3429000"/>
            <a:ext cx="107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أُذُنٌ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15960" y="3429000"/>
            <a:ext cx="1857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عطي الإذ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295280" y="3429000"/>
            <a:ext cx="147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عه قو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62120" y="47242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سميَّ (ص) بها إشارة إلى أنه يصغي ويستمع إلى كل ما يقال ويذكر له،للإساءة إليه (ص) ، لكنه سماع لما فيه خيركم  ومصلحتكم وليس لما يضركم ولا ينفعك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6" dur="indefinite" restart="never" nodeType="tmRoot">
          <p:childTnLst>
            <p:seq>
              <p:cTn id="4437" dur="indefinite" nodeType="mainSeq">
                <p:childTnLst>
                  <p:par>
                    <p:cTn id="4438" fill="hold">
                      <p:stCondLst>
                        <p:cond delay="0"/>
                      </p:stCondLst>
                      <p:childTnLst>
                        <p:par>
                          <p:cTn id="4439" fill="hold">
                            <p:stCondLst>
                              <p:cond delay="0"/>
                            </p:stCondLst>
                            <p:childTnLst>
                              <p:par>
                                <p:cTn id="44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6" dur="24033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1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4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0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1" fill="hold">
                            <p:stCondLst>
                              <p:cond delay="0"/>
                            </p:stCondLst>
                            <p:childTnLst>
                              <p:par>
                                <p:cTn id="4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609480" y="129528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يَأْتِهِمْ نَبَأُ الَّذِينَ مِنْ قَبْلِهِمْ قَوْمِ نُوحٍ وَعَادٍ وَثَمُودَ وَقَوْمِ إِبْرَاهِيمَ وَأَصْحَابِ مَدْيَن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أَتَتْهُمْ رُسُلُهُمْ بِالْبَيِّنَاتِ فَمَا كَانَ اللَّهُ لِيَظْلِمَهُمْ وَلَكِنْ كَانُوا أَنْفُسَهُمْ يَظْل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417360" y="3429000"/>
            <a:ext cx="206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وَالْمُؤْتَفِكَات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3429000"/>
            <a:ext cx="1460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نقلب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648320" y="3429000"/>
            <a:ext cx="156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ؤم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743200" y="3429000"/>
            <a:ext cx="142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الح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23920" y="4648320"/>
            <a:ext cx="89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قصود بالمؤتفكات قوم لوط الذين إنقلبت بهم قراهم عاليها سافلها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13716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5" dur="indefinite" restart="never" nodeType="tmRoot">
          <p:childTnLst>
            <p:seq>
              <p:cTn id="4476" dur="indefinite" nodeType="mainSeq">
                <p:childTnLst>
                  <p:par>
                    <p:cTn id="4477" fill="hold">
                      <p:stCondLst>
                        <p:cond delay="0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1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2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3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4" dur="500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6" dur="35840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7" fill="hold">
                      <p:stCondLst>
                        <p:cond delay="indefinite"/>
                      </p:stCondLst>
                      <p:childTnLst>
                        <p:par>
                          <p:cTn id="4488" fill="hold">
                            <p:stCondLst>
                              <p:cond delay="0"/>
                            </p:stCondLst>
                            <p:childTnLst>
                              <p:par>
                                <p:cTn id="44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9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7" fill="hold">
                      <p:stCondLst>
                        <p:cond delay="indefinite"/>
                      </p:stCondLst>
                      <p:childTnLst>
                        <p:par>
                          <p:cTn id="4508" fill="hold">
                            <p:stCondLst>
                              <p:cond delay="0"/>
                            </p:stCondLst>
                            <p:childTnLst>
                              <p:par>
                                <p:cTn id="45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3" fill="hold">
                            <p:stCondLst>
                              <p:cond delay="0"/>
                            </p:stCondLst>
                            <p:childTnLst>
                              <p:par>
                                <p:cTn id="4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5335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رَضُوا بِأَنْ يَكُونُوا مَعَ </a:t>
            </a: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طُبِعَ عَلَى قُلُوبِهِمْ فَهُمْ لا يَفْقَه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توب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01480" y="3352680"/>
            <a:ext cx="157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303d8"/>
                </a:solidFill>
                <a:latin typeface="Arial"/>
                <a:cs typeface="Arial"/>
              </a:rPr>
              <a:t>الْخَوَالِفِ</a:t>
            </a:r>
            <a:r>
              <a:rPr b="0" lang="ar-LB" sz="2800" spc="-1" strike="noStrike">
                <a:solidFill>
                  <a:srgbClr val="e303d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895480" y="33526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خل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952880" y="3352680"/>
            <a:ext cx="1739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ائف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38080" y="3352680"/>
            <a:ext cx="169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هارب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38080" y="4572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خوالف المقصود بهم الذين عُذِروا عن المشاركة في الجهاد من النساء والعجائز والأطفال والمرضى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32767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7" dur="indefinite" restart="never" nodeType="tmRoot">
          <p:childTnLst>
            <p:seq>
              <p:cTn id="4518" dur="indefinite" nodeType="mainSeq">
                <p:childTnLst>
                  <p:par>
                    <p:cTn id="4519" fill="hold">
                      <p:stCondLst>
                        <p:cond delay="0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5" dur="11912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6" fill="hold">
                      <p:stCondLst>
                        <p:cond delay="indefinite"/>
                      </p:stCondLst>
                      <p:childTnLst>
                        <p:par>
                          <p:cTn id="4527" fill="hold">
                            <p:stCondLst>
                              <p:cond delay="0"/>
                            </p:stCondLst>
                            <p:childTnLst>
                              <p:par>
                                <p:cTn id="4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1" fill="hold">
                            <p:stCondLst>
                              <p:cond delay="500"/>
                            </p:stCondLst>
                            <p:childTnLst>
                              <p:par>
                                <p:cTn id="45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4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5" fill="hold">
                      <p:stCondLst>
                        <p:cond delay="indefinite"/>
                      </p:stCondLst>
                      <p:childTnLst>
                        <p:par>
                          <p:cTn id="4546" fill="hold">
                            <p:stCondLst>
                              <p:cond delay="0"/>
                            </p:stCondLst>
                            <p:childTnLst>
                              <p:par>
                                <p:cTn id="45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0"/>
                            </p:stCondLst>
                            <p:childTnLst>
                              <p:par>
                                <p:cTn id="4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219320" y="156852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رَأَيْتَ الَّذِي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عْطَى قَلِيلاً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وأ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Traditional Arabic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 النج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تَوَلّ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2814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3281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3276720"/>
            <a:ext cx="1670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781680" y="4500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كْد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4500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ف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4495680"/>
            <a:ext cx="164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قط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4956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7440" y="5486400"/>
            <a:ext cx="76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كدى : أي الذي أعطى قليلاً من المال ثم أمسك أشد المس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778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11430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 عَلَيْهِ النَّشْأَةَ الْأُخْر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نَّهُ هُوَ أَغْنَى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 </a:t>
            </a:r>
            <a:r>
              <a:rPr b="0" lang="ar-SA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هُوَ رَبُّ </a:t>
            </a: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نج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4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10280" y="2590920"/>
            <a:ext cx="123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وَأَقْن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2590920"/>
            <a:ext cx="1939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طى ما يبقى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59092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فق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590920"/>
            <a:ext cx="193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448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معنى القنية ما يدوم من الأموال ويبقى ببقاء نفسه كالدار والبستان والحيوا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99400" y="4576680"/>
            <a:ext cx="154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e08a8"/>
                </a:solidFill>
                <a:latin typeface="Arial"/>
                <a:cs typeface="Arial"/>
              </a:rPr>
              <a:t>الشِّعْرَى</a:t>
            </a:r>
            <a:r>
              <a:rPr b="0" lang="ar-LB" sz="2800" spc="-1" strike="noStrike">
                <a:solidFill>
                  <a:srgbClr val="ce08a8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4572000"/>
            <a:ext cx="1930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نجم المض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4576680"/>
            <a:ext cx="1911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كواك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4576680"/>
            <a:ext cx="192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و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3845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80"/>
                            </p:stCondLst>
                            <p:childTnLst>
                              <p:par>
                                <p:cTn id="4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480"/>
                            </p:stCondLst>
                            <p:childTnLst>
                              <p:par>
                                <p:cTn id="4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98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59Z</dcterms:created>
  <dc:creator/>
  <dc:description/>
  <dc:language>en-US</dc:language>
  <cp:lastModifiedBy>ALI</cp:lastModifiedBy>
  <dcterms:modified xsi:type="dcterms:W3CDTF">2008-09-21T07:01:32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